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820B-E971-4B9E-9B51-0FF900097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864C-06C8-4CFB-A40E-1277A412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B3EE-7557-47EE-ADB5-851448DDA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5F52-3F41-41CF-BB48-501D23D05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C117-EC3A-48C3-A5A1-52A81E48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0646-51E9-4E69-9144-8D669B77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85F2-D1EE-45D8-8AEB-18CB6475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CCAD-669A-4DC5-B8A4-D01B1DF3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DAFA-9637-482E-8343-9E2F3F71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497E-AE74-4FF5-97C2-6008E2EA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BD3C-7DF5-42C7-9F69-0C769575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EC42-941E-4846-80B9-FF749684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0B6F-5B04-48E1-9655-580616322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PCiconSpeak Alternative Us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ing around using circles to minimize m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we might build a sent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0040" y="1211400"/>
            <a:ext cx="8305920" cy="510516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886200" y="3200400"/>
            <a:ext cx="152388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427360" y="3921120"/>
            <a:ext cx="1532160" cy="1649160"/>
            <a:chOff x="5427360" y="3921120"/>
            <a:chExt cx="1532160" cy="1649160"/>
          </a:xfrm>
        </p:grpSpPr>
        <p:sp>
          <p:nvSpPr>
            <p:cNvPr id="587" name=""/>
            <p:cNvSpPr/>
            <p:nvPr/>
          </p:nvSpPr>
          <p:spPr>
            <a:xfrm rot="383400">
              <a:off x="5567760" y="4182840"/>
              <a:ext cx="114300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 rot="383400">
              <a:off x="6477840" y="455112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 rot="383400">
              <a:off x="5804280" y="508896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 rot="383400">
              <a:off x="5855760" y="394488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 rot="383400">
              <a:off x="6293160" y="414720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 rot="383400">
              <a:off x="6275520" y="498852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 rot="383400">
              <a:off x="5450760" y="481968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5505480" y="2210400"/>
            <a:ext cx="1627200" cy="1685520"/>
            <a:chOff x="5505480" y="2210400"/>
            <a:chExt cx="1627200" cy="1685520"/>
          </a:xfrm>
        </p:grpSpPr>
        <p:sp>
          <p:nvSpPr>
            <p:cNvPr id="595" name=""/>
            <p:cNvSpPr/>
            <p:nvPr/>
          </p:nvSpPr>
          <p:spPr>
            <a:xfrm flipV="1" rot="20599800">
              <a:off x="5729040" y="2534040"/>
              <a:ext cx="1143000" cy="1067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 flipV="1" rot="20599800">
              <a:off x="6619680" y="2675160"/>
              <a:ext cx="457200" cy="456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 rot="20599800">
              <a:off x="5860800" y="2266200"/>
              <a:ext cx="457200" cy="456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flipV="1" rot="20599800">
              <a:off x="6115680" y="3382920"/>
              <a:ext cx="457200" cy="456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 flipV="1" rot="20599800">
              <a:off x="6509880" y="3105720"/>
              <a:ext cx="457200" cy="456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 flipV="1" rot="20599800">
              <a:off x="6342480" y="2280960"/>
              <a:ext cx="457200" cy="456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 flipV="1" rot="20599800">
              <a:off x="5561280" y="2594520"/>
              <a:ext cx="457200" cy="456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7696080" y="1371600"/>
            <a:ext cx="843480" cy="1295280"/>
            <a:chOff x="7696080" y="1371600"/>
            <a:chExt cx="843480" cy="1295280"/>
          </a:xfrm>
        </p:grpSpPr>
        <p:grpSp>
          <p:nvGrpSpPr>
            <p:cNvPr id="603" name=""/>
            <p:cNvGrpSpPr/>
            <p:nvPr/>
          </p:nvGrpSpPr>
          <p:grpSpPr>
            <a:xfrm>
              <a:off x="7696080" y="1752480"/>
              <a:ext cx="838080" cy="914400"/>
              <a:chOff x="7696080" y="1752480"/>
              <a:chExt cx="838080" cy="914400"/>
            </a:xfrm>
          </p:grpSpPr>
          <p:sp>
            <p:nvSpPr>
              <p:cNvPr id="604" name=""/>
              <p:cNvSpPr/>
              <p:nvPr/>
            </p:nvSpPr>
            <p:spPr>
              <a:xfrm flipH="1">
                <a:off x="7863840" y="1752480"/>
                <a:ext cx="670320" cy="91440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5" name=""/>
              <p:cNvGrpSpPr/>
              <p:nvPr/>
            </p:nvGrpSpPr>
            <p:grpSpPr>
              <a:xfrm>
                <a:off x="7696080" y="1752480"/>
                <a:ext cx="419400" cy="914400"/>
                <a:chOff x="7696080" y="1752480"/>
                <a:chExt cx="419400" cy="914400"/>
              </a:xfrm>
            </p:grpSpPr>
            <p:sp>
              <p:nvSpPr>
                <p:cNvPr id="606" name=""/>
                <p:cNvSpPr/>
                <p:nvPr/>
              </p:nvSpPr>
              <p:spPr>
                <a:xfrm flipH="1">
                  <a:off x="7954200" y="211824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H="1">
                  <a:off x="7792920" y="1752480"/>
                  <a:ext cx="193320" cy="18288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H="1">
                  <a:off x="7825320" y="230112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 flipH="1">
                  <a:off x="7889760" y="1935360"/>
                  <a:ext cx="193320" cy="182880"/>
                </a:xfrm>
                <a:prstGeom prst="parallelogram">
                  <a:avLst>
                    <a:gd name="adj" fmla="val 26427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flipH="1">
                  <a:off x="7760520" y="1935360"/>
                  <a:ext cx="258120" cy="365760"/>
                </a:xfrm>
                <a:custGeom>
                  <a:avLst/>
                  <a:gdLst>
                    <a:gd name="textAreaLeft" fmla="*/ 56520 w 258120"/>
                    <a:gd name="textAreaRight" fmla="*/ 201600 w 258120"/>
                    <a:gd name="textAreaTop" fmla="*/ 80280 h 365760"/>
                    <a:gd name="textAreaBottom" fmla="*/ 285480 h 365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7696080" y="193536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7825320" y="248400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7793280" y="2301120"/>
                  <a:ext cx="128880" cy="36576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H="1">
                  <a:off x="7696080" y="211824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5" name=""/>
            <p:cNvSpPr/>
            <p:nvPr/>
          </p:nvSpPr>
          <p:spPr>
            <a:xfrm>
              <a:off x="7849800" y="137160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EX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438280" y="5715000"/>
            <a:ext cx="5105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85800" y="5715000"/>
            <a:ext cx="1143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600,2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09480" y="1523880"/>
            <a:ext cx="22860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od around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18400" y="20178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391520" y="3429000"/>
            <a:ext cx="7596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238880" y="3809880"/>
            <a:ext cx="381240" cy="7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848720" y="3429000"/>
            <a:ext cx="7596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696080" y="4114800"/>
            <a:ext cx="381240" cy="7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8305920" y="3429000"/>
            <a:ext cx="7596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8153280" y="4495680"/>
            <a:ext cx="381240" cy="7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5770440" y="2890800"/>
            <a:ext cx="8668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la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5715000" y="4572000"/>
            <a:ext cx="8668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scrib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7740000" y="5105520"/>
            <a:ext cx="297000" cy="393840"/>
            <a:chOff x="7740000" y="5105520"/>
            <a:chExt cx="297000" cy="393840"/>
          </a:xfrm>
        </p:grpSpPr>
        <p:sp>
          <p:nvSpPr>
            <p:cNvPr id="629" name=""/>
            <p:cNvSpPr/>
            <p:nvPr/>
          </p:nvSpPr>
          <p:spPr>
            <a:xfrm>
              <a:off x="7863840" y="5105520"/>
              <a:ext cx="45720" cy="1425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1466400">
              <a:off x="7772040" y="5343120"/>
              <a:ext cx="91440" cy="142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19618200">
              <a:off x="7909560" y="5343120"/>
              <a:ext cx="91440" cy="142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19514400">
              <a:off x="7772400" y="5152680"/>
              <a:ext cx="91440" cy="142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2550000">
              <a:off x="7909200" y="5152320"/>
              <a:ext cx="91440" cy="142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772400" y="5200560"/>
              <a:ext cx="228600" cy="237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7772400" y="2971800"/>
            <a:ext cx="228600" cy="380520"/>
            <a:chOff x="7772400" y="2971800"/>
            <a:chExt cx="228600" cy="380520"/>
          </a:xfrm>
        </p:grpSpPr>
        <p:sp>
          <p:nvSpPr>
            <p:cNvPr id="636" name=""/>
            <p:cNvSpPr/>
            <p:nvPr/>
          </p:nvSpPr>
          <p:spPr>
            <a:xfrm>
              <a:off x="7818120" y="2971800"/>
              <a:ext cx="45720" cy="1904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09560" y="2971800"/>
              <a:ext cx="45720" cy="1904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772400" y="3114360"/>
              <a:ext cx="228600" cy="2379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6460200" y="2903400"/>
            <a:ext cx="1159560" cy="585720"/>
            <a:chOff x="6460200" y="2903400"/>
            <a:chExt cx="1159560" cy="585720"/>
          </a:xfrm>
        </p:grpSpPr>
        <p:grpSp>
          <p:nvGrpSpPr>
            <p:cNvPr id="640" name=""/>
            <p:cNvGrpSpPr/>
            <p:nvPr/>
          </p:nvGrpSpPr>
          <p:grpSpPr>
            <a:xfrm>
              <a:off x="7145640" y="3048120"/>
              <a:ext cx="157680" cy="304560"/>
              <a:chOff x="7145640" y="3048120"/>
              <a:chExt cx="157680" cy="304560"/>
            </a:xfrm>
          </p:grpSpPr>
          <p:sp>
            <p:nvSpPr>
              <p:cNvPr id="641" name=""/>
              <p:cNvSpPr/>
              <p:nvPr/>
            </p:nvSpPr>
            <p:spPr>
              <a:xfrm rot="5400000">
                <a:off x="7098480" y="3171240"/>
                <a:ext cx="153000" cy="5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5400000">
                <a:off x="7101720" y="3151080"/>
                <a:ext cx="304560" cy="98640"/>
              </a:xfrm>
              <a:custGeom>
                <a:avLst/>
                <a:gdLst>
                  <a:gd name="textAreaLeft" fmla="*/ 66960 w 304560"/>
                  <a:gd name="textAreaRight" fmla="*/ 237600 w 304560"/>
                  <a:gd name="textAreaTop" fmla="*/ 21600 h 98640"/>
                  <a:gd name="textAreaBottom" fmla="*/ 77040 h 98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3" name=""/>
            <p:cNvSpPr/>
            <p:nvPr/>
          </p:nvSpPr>
          <p:spPr>
            <a:xfrm rot="5400000">
              <a:off x="6641640" y="2721960"/>
              <a:ext cx="585720" cy="94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40" y="1482"/>
                  </a:moveTo>
                  <a:arcTo wR="10800" hR="10800" stAng="-7222276" swAng="3756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5340" y="1482"/>
                  </a:moveTo>
                  <a:arcTo wR="10800" hR="10800" stAng="-7222276" swAng="375678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5400000">
              <a:off x="6747120" y="2721960"/>
              <a:ext cx="585720" cy="94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40" y="1482"/>
                  </a:moveTo>
                  <a:arcTo wR="10800" hR="10800" stAng="-7222276" swAng="3756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5340" y="1482"/>
                  </a:moveTo>
                  <a:arcTo wR="10800" hR="10800" stAng="-7222276" swAng="375678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5400000">
              <a:off x="6852600" y="2721960"/>
              <a:ext cx="585720" cy="94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40" y="1482"/>
                  </a:moveTo>
                  <a:arcTo wR="10800" hR="10800" stAng="-7222276" swAng="3756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5340" y="1482"/>
                  </a:moveTo>
                  <a:arcTo wR="10800" hR="10800" stAng="-7222276" swAng="375678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6629760" y="5036400"/>
            <a:ext cx="914040" cy="586440"/>
            <a:chOff x="6629760" y="5036400"/>
            <a:chExt cx="914040" cy="586440"/>
          </a:xfrm>
        </p:grpSpPr>
        <p:grpSp>
          <p:nvGrpSpPr>
            <p:cNvPr id="647" name=""/>
            <p:cNvGrpSpPr/>
            <p:nvPr/>
          </p:nvGrpSpPr>
          <p:grpSpPr>
            <a:xfrm>
              <a:off x="7290360" y="5181480"/>
              <a:ext cx="151920" cy="304920"/>
              <a:chOff x="7290360" y="5181480"/>
              <a:chExt cx="151920" cy="304920"/>
            </a:xfrm>
          </p:grpSpPr>
          <p:sp>
            <p:nvSpPr>
              <p:cNvPr id="648" name=""/>
              <p:cNvSpPr/>
              <p:nvPr/>
            </p:nvSpPr>
            <p:spPr>
              <a:xfrm rot="5400000">
                <a:off x="7242120" y="5305680"/>
                <a:ext cx="153000" cy="56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5400000">
                <a:off x="7242120" y="5286240"/>
                <a:ext cx="304920" cy="95040"/>
              </a:xfrm>
              <a:custGeom>
                <a:avLst/>
                <a:gdLst>
                  <a:gd name="textAreaLeft" fmla="*/ 66960 w 304920"/>
                  <a:gd name="textAreaRight" fmla="*/ 237960 w 304920"/>
                  <a:gd name="textAreaTop" fmla="*/ 20880 h 95040"/>
                  <a:gd name="textAreaBottom" fmla="*/ 74160 h 95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"/>
            <p:cNvSpPr/>
            <p:nvPr/>
          </p:nvSpPr>
          <p:spPr>
            <a:xfrm rot="5400000">
              <a:off x="6793560" y="4872600"/>
              <a:ext cx="5864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40" y="1482"/>
                  </a:moveTo>
                  <a:arcTo wR="10800" hR="10800" stAng="-7222276" swAng="3756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5340" y="1482"/>
                  </a:moveTo>
                  <a:arcTo wR="10800" hR="10800" stAng="-7222276" swAng="375678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8153280" y="5105520"/>
            <a:ext cx="381240" cy="457200"/>
            <a:chOff x="8153280" y="5105520"/>
            <a:chExt cx="381240" cy="457200"/>
          </a:xfrm>
        </p:grpSpPr>
        <p:sp>
          <p:nvSpPr>
            <p:cNvPr id="652" name=""/>
            <p:cNvSpPr/>
            <p:nvPr/>
          </p:nvSpPr>
          <p:spPr>
            <a:xfrm>
              <a:off x="8153280" y="5105520"/>
              <a:ext cx="381240" cy="4572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270640" y="5236200"/>
              <a:ext cx="58320" cy="3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387640" y="5236200"/>
              <a:ext cx="58680" cy="3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358480" y="5301360"/>
              <a:ext cx="87840" cy="9792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8210520" y="5333400"/>
              <a:ext cx="292680" cy="1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" y="9340"/>
                  </a:moveTo>
                  <a:arcTo wR="10800" hR="10800" stAng="-10333692" swAng="10333692"/>
                  <a:lnTo>
                    <a:pt x="10800" y="10800"/>
                  </a:lnTo>
                  <a:close/>
                </a:path>
                <a:path fill="none" w="21600" h="21600">
                  <a:moveTo>
                    <a:pt x="99" y="9340"/>
                  </a:moveTo>
                  <a:arcTo wR="10800" hR="10800" stAng="-10333692" swAng="1033369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8153280" y="2971800"/>
            <a:ext cx="381240" cy="380880"/>
            <a:chOff x="8153280" y="2971800"/>
            <a:chExt cx="381240" cy="380880"/>
          </a:xfrm>
        </p:grpSpPr>
        <p:sp>
          <p:nvSpPr>
            <p:cNvPr id="658" name=""/>
            <p:cNvSpPr/>
            <p:nvPr/>
          </p:nvSpPr>
          <p:spPr>
            <a:xfrm>
              <a:off x="8153280" y="2971800"/>
              <a:ext cx="381240" cy="380880"/>
            </a:xfrm>
            <a:prstGeom prst="rect">
              <a:avLst/>
            </a:prstGeom>
            <a:solidFill>
              <a:srgbClr val="b9b4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222400" y="3059640"/>
              <a:ext cx="69120" cy="2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430480" y="3059640"/>
              <a:ext cx="69120" cy="2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 rot="21214800">
              <a:off x="8249760" y="3147480"/>
              <a:ext cx="277920" cy="1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" y="9340"/>
                  </a:moveTo>
                  <a:arcTo wR="10800" hR="10800" stAng="-10333692" swAng="10333692"/>
                  <a:lnTo>
                    <a:pt x="10800" y="10800"/>
                  </a:lnTo>
                  <a:close/>
                </a:path>
                <a:path fill="none" w="21600" h="21600">
                  <a:moveTo>
                    <a:pt x="99" y="9340"/>
                  </a:moveTo>
                  <a:arcTo wR="10800" hR="10800" stAng="-10333692" swAng="1033369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291880" y="3118320"/>
              <a:ext cx="138600" cy="8784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4419720" y="2971800"/>
            <a:ext cx="53316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029200" y="3276720"/>
            <a:ext cx="53352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029200" y="3886200"/>
            <a:ext cx="53352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733920" y="3886200"/>
            <a:ext cx="53316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419720" y="4267080"/>
            <a:ext cx="53316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495680" y="2971800"/>
            <a:ext cx="3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5091120" y="3354480"/>
            <a:ext cx="420480" cy="335880"/>
            <a:chOff x="5091120" y="3354480"/>
            <a:chExt cx="420480" cy="335880"/>
          </a:xfrm>
        </p:grpSpPr>
        <p:sp>
          <p:nvSpPr>
            <p:cNvPr id="670" name=""/>
            <p:cNvSpPr/>
            <p:nvPr/>
          </p:nvSpPr>
          <p:spPr>
            <a:xfrm rot="4661400">
              <a:off x="5248800" y="3416040"/>
              <a:ext cx="168480" cy="157680"/>
            </a:xfrm>
            <a:custGeom>
              <a:avLst/>
              <a:gdLst>
                <a:gd name="textAreaLeft" fmla="*/ 48960 w 168480"/>
                <a:gd name="textAreaRight" fmla="*/ 119520 w 168480"/>
                <a:gd name="textAreaTop" fmla="*/ 45720 h 157680"/>
                <a:gd name="textAreaBottom" fmla="*/ 111960 h 15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3425" y="21600"/>
                  </a:lnTo>
                  <a:lnTo>
                    <a:pt x="8175" y="21600"/>
                  </a:lnTo>
                  <a:close/>
                </a:path>
              </a:pathLst>
            </a:cu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434920" y="3382560"/>
              <a:ext cx="27720" cy="16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479920" y="3354480"/>
              <a:ext cx="31680" cy="22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3" name=""/>
            <p:cNvGrpSpPr/>
            <p:nvPr/>
          </p:nvGrpSpPr>
          <p:grpSpPr>
            <a:xfrm>
              <a:off x="5091120" y="3414600"/>
              <a:ext cx="186480" cy="275760"/>
              <a:chOff x="5091120" y="3414600"/>
              <a:chExt cx="186480" cy="275760"/>
            </a:xfrm>
          </p:grpSpPr>
          <p:sp>
            <p:nvSpPr>
              <p:cNvPr id="674" name=""/>
              <p:cNvSpPr/>
              <p:nvPr/>
            </p:nvSpPr>
            <p:spPr>
              <a:xfrm>
                <a:off x="5091120" y="3438720"/>
                <a:ext cx="186480" cy="2174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171760" y="3460680"/>
                <a:ext cx="45360" cy="39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125680" y="3414600"/>
                <a:ext cx="151920" cy="275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79" y="5625"/>
                    </a:moveTo>
                    <a:arcTo wR="10800" hR="10800" stAng="-1717935" swAng="142443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79" y="5625"/>
                    </a:moveTo>
                    <a:arcTo wR="10800" hR="10800" stAng="-1717935" swAng="1424434"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7" name=""/>
          <p:cNvGrpSpPr/>
          <p:nvPr/>
        </p:nvGrpSpPr>
        <p:grpSpPr>
          <a:xfrm>
            <a:off x="3733920" y="3276720"/>
            <a:ext cx="819000" cy="457200"/>
            <a:chOff x="3733920" y="3276720"/>
            <a:chExt cx="819000" cy="457200"/>
          </a:xfrm>
        </p:grpSpPr>
        <p:sp>
          <p:nvSpPr>
            <p:cNvPr id="678" name=""/>
            <p:cNvSpPr/>
            <p:nvPr/>
          </p:nvSpPr>
          <p:spPr>
            <a:xfrm>
              <a:off x="3733920" y="3276720"/>
              <a:ext cx="533160" cy="4572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741840" y="3344760"/>
              <a:ext cx="81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u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645000" y="3878280"/>
            <a:ext cx="497880" cy="455400"/>
            <a:chOff x="3645000" y="3878280"/>
            <a:chExt cx="497880" cy="455400"/>
          </a:xfrm>
        </p:grpSpPr>
        <p:grpSp>
          <p:nvGrpSpPr>
            <p:cNvPr id="681" name=""/>
            <p:cNvGrpSpPr/>
            <p:nvPr/>
          </p:nvGrpSpPr>
          <p:grpSpPr>
            <a:xfrm>
              <a:off x="3786840" y="3878280"/>
              <a:ext cx="356040" cy="455400"/>
              <a:chOff x="3786840" y="3878280"/>
              <a:chExt cx="356040" cy="455400"/>
            </a:xfrm>
          </p:grpSpPr>
          <p:sp>
            <p:nvSpPr>
              <p:cNvPr id="682" name=""/>
              <p:cNvSpPr/>
              <p:nvPr/>
            </p:nvSpPr>
            <p:spPr>
              <a:xfrm>
                <a:off x="3858840" y="3885840"/>
                <a:ext cx="31320" cy="1630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877200" y="3962880"/>
                <a:ext cx="246600" cy="208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902040" y="3998880"/>
                <a:ext cx="195840" cy="14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786840" y="4176360"/>
                <a:ext cx="348480" cy="157320"/>
              </a:xfrm>
              <a:prstGeom prst="parallelogram">
                <a:avLst>
                  <a:gd name="adj" fmla="val 5537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ff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854520" y="4200120"/>
                <a:ext cx="230760" cy="68400"/>
              </a:xfrm>
              <a:prstGeom prst="parallelogram">
                <a:avLst>
                  <a:gd name="adj" fmla="val 53854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832200" y="4269240"/>
                <a:ext cx="218520" cy="40680"/>
              </a:xfrm>
              <a:prstGeom prst="parallelogram">
                <a:avLst>
                  <a:gd name="adj" fmla="val 399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111560" y="3878280"/>
                <a:ext cx="31320" cy="1630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>
              <a:off x="3645000" y="3975480"/>
              <a:ext cx="178560" cy="227160"/>
            </a:xfrm>
            <a:prstGeom prst="rightArrow">
              <a:avLst>
                <a:gd name="adj1" fmla="val 66667"/>
                <a:gd name="adj2" fmla="val 5816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5167440" y="3886200"/>
            <a:ext cx="455400" cy="469800"/>
            <a:chOff x="5167440" y="3886200"/>
            <a:chExt cx="455400" cy="469800"/>
          </a:xfrm>
        </p:grpSpPr>
        <p:grpSp>
          <p:nvGrpSpPr>
            <p:cNvPr id="691" name=""/>
            <p:cNvGrpSpPr/>
            <p:nvPr/>
          </p:nvGrpSpPr>
          <p:grpSpPr>
            <a:xfrm>
              <a:off x="5167440" y="3886200"/>
              <a:ext cx="325440" cy="469800"/>
              <a:chOff x="5167440" y="3886200"/>
              <a:chExt cx="325440" cy="469800"/>
            </a:xfrm>
          </p:grpSpPr>
          <p:sp>
            <p:nvSpPr>
              <p:cNvPr id="692" name=""/>
              <p:cNvSpPr/>
              <p:nvPr/>
            </p:nvSpPr>
            <p:spPr>
              <a:xfrm flipH="1">
                <a:off x="5398560" y="3894120"/>
                <a:ext cx="28800" cy="1681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>
                <a:off x="5185080" y="3973320"/>
                <a:ext cx="225360" cy="214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5208120" y="4010400"/>
                <a:ext cx="178920" cy="150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5173920" y="4193640"/>
                <a:ext cx="318600" cy="162360"/>
              </a:xfrm>
              <a:prstGeom prst="parallelogram">
                <a:avLst>
                  <a:gd name="adj" fmla="val 4905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ff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5220000" y="4218120"/>
                <a:ext cx="210960" cy="70560"/>
              </a:xfrm>
              <a:prstGeom prst="parallelogram">
                <a:avLst>
                  <a:gd name="adj" fmla="val 47726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5251320" y="4289040"/>
                <a:ext cx="199800" cy="41760"/>
              </a:xfrm>
              <a:prstGeom prst="parallelogram">
                <a:avLst>
                  <a:gd name="adj" fmla="val 3557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5167440" y="3886200"/>
                <a:ext cx="28800" cy="1677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>
              <a:off x="5459760" y="3986280"/>
              <a:ext cx="163080" cy="234360"/>
            </a:xfrm>
            <a:prstGeom prst="rightArrow">
              <a:avLst>
                <a:gd name="adj1" fmla="val 66667"/>
                <a:gd name="adj2" fmla="val 5816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4498920" y="4280040"/>
            <a:ext cx="382680" cy="409320"/>
            <a:chOff x="4498920" y="4280040"/>
            <a:chExt cx="382680" cy="409320"/>
          </a:xfrm>
        </p:grpSpPr>
        <p:sp>
          <p:nvSpPr>
            <p:cNvPr id="701" name=""/>
            <p:cNvSpPr/>
            <p:nvPr/>
          </p:nvSpPr>
          <p:spPr>
            <a:xfrm>
              <a:off x="4498920" y="4509000"/>
              <a:ext cx="375840" cy="180360"/>
            </a:xfrm>
            <a:custGeom>
              <a:avLst/>
              <a:gdLst>
                <a:gd name="textAreaLeft" fmla="*/ 82440 w 375840"/>
                <a:gd name="textAreaRight" fmla="*/ 293400 w 375840"/>
                <a:gd name="textAreaTop" fmla="*/ 39600 h 180360"/>
                <a:gd name="textAreaBottom" fmla="*/ 140760 h 18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498920" y="4462920"/>
              <a:ext cx="382680" cy="97920"/>
            </a:xfrm>
            <a:prstGeom prst="ellipse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565520" y="4280040"/>
              <a:ext cx="232560" cy="178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687240" y="525780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2337480" y="3921480"/>
            <a:ext cx="1530360" cy="1648800"/>
            <a:chOff x="2337480" y="3921480"/>
            <a:chExt cx="1530360" cy="1648800"/>
          </a:xfrm>
        </p:grpSpPr>
        <p:grpSp>
          <p:nvGrpSpPr>
            <p:cNvPr id="706" name=""/>
            <p:cNvGrpSpPr/>
            <p:nvPr/>
          </p:nvGrpSpPr>
          <p:grpSpPr>
            <a:xfrm>
              <a:off x="2337480" y="3921480"/>
              <a:ext cx="1530360" cy="1648800"/>
              <a:chOff x="2337480" y="3921480"/>
              <a:chExt cx="1530360" cy="1648800"/>
            </a:xfrm>
          </p:grpSpPr>
          <p:sp>
            <p:nvSpPr>
              <p:cNvPr id="707" name=""/>
              <p:cNvSpPr/>
              <p:nvPr/>
            </p:nvSpPr>
            <p:spPr>
              <a:xfrm rot="21222000">
                <a:off x="2585880" y="4182840"/>
                <a:ext cx="1142640" cy="1067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21222000">
                <a:off x="2360880" y="455040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rot="21222000">
                <a:off x="3033000" y="508932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rot="21222000">
                <a:off x="2983680" y="394488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21222000">
                <a:off x="2545920" y="414684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rot="21222000">
                <a:off x="2562120" y="498816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rot="21222000">
                <a:off x="3386880" y="482040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2638440" y="5051520"/>
              <a:ext cx="310680" cy="460440"/>
              <a:chOff x="2638440" y="5051520"/>
              <a:chExt cx="310680" cy="460440"/>
            </a:xfrm>
          </p:grpSpPr>
          <p:sp>
            <p:nvSpPr>
              <p:cNvPr id="715" name=""/>
              <p:cNvSpPr/>
              <p:nvPr/>
            </p:nvSpPr>
            <p:spPr>
              <a:xfrm>
                <a:off x="2638440" y="5051520"/>
                <a:ext cx="310680" cy="46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" y="10227"/>
                    </a:moveTo>
                    <a:arcTo wR="10800" hR="10800" stAng="-10617547" swAng="106175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" y="10227"/>
                    </a:moveTo>
                    <a:arcTo wR="10800" hR="10800" stAng="-10617547" swAng="10617547"/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698200" y="5105160"/>
                <a:ext cx="202680" cy="248040"/>
              </a:xfrm>
              <a:prstGeom prst="ellipse">
                <a:avLst/>
              </a:prstGeom>
              <a:solidFill>
                <a:srgbClr val="ffce4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702520" y="5071320"/>
                <a:ext cx="211680" cy="14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" y="10227"/>
                    </a:moveTo>
                    <a:arcTo wR="10800" hR="10800" stAng="-10617547" swAng="106175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" y="10227"/>
                    </a:moveTo>
                    <a:arcTo wR="10800" hR="10800" stAng="-10617547" swAng="10617547"/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3119400" y="5156280"/>
              <a:ext cx="288720" cy="314280"/>
              <a:chOff x="3119400" y="5156280"/>
              <a:chExt cx="288720" cy="314280"/>
            </a:xfrm>
          </p:grpSpPr>
          <p:sp>
            <p:nvSpPr>
              <p:cNvPr id="719" name=""/>
              <p:cNvSpPr/>
              <p:nvPr/>
            </p:nvSpPr>
            <p:spPr>
              <a:xfrm>
                <a:off x="3123720" y="5156280"/>
                <a:ext cx="276840" cy="314280"/>
              </a:xfrm>
              <a:prstGeom prst="ellipse">
                <a:avLst/>
              </a:prstGeom>
              <a:solidFill>
                <a:srgbClr val="ffce4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119400" y="5157360"/>
                <a:ext cx="288720" cy="18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" y="10227"/>
                    </a:moveTo>
                    <a:arcTo wR="10800" hR="10800" stAng="-10617547" swAng="106175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" y="10227"/>
                    </a:moveTo>
                    <a:arcTo wR="10800" hR="10800" stAng="-10617547" swAng="10617547"/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183480" y="5312520"/>
                <a:ext cx="141840" cy="8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" y="10227"/>
                    </a:moveTo>
                    <a:arcTo wR="10800" hR="10800" stAng="-10617547" swAng="106175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" y="10227"/>
                    </a:moveTo>
                    <a:arcTo wR="10800" hR="10800" stAng="-10617547" swAng="10617547"/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2" name=""/>
          <p:cNvSpPr txBox="1"/>
          <p:nvPr/>
        </p:nvSpPr>
        <p:spPr>
          <a:xfrm>
            <a:off x="2743200" y="4572000"/>
            <a:ext cx="8668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ers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3" name=""/>
          <p:cNvSpPr/>
          <p:nvPr/>
        </p:nvSpPr>
        <p:spPr>
          <a:xfrm flipH="1" flipV="1">
            <a:off x="4648320" y="5028840"/>
            <a:ext cx="155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532240" y="57834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2248920" y="2125800"/>
            <a:ext cx="1579320" cy="1672200"/>
            <a:chOff x="2248920" y="2125800"/>
            <a:chExt cx="1579320" cy="1672200"/>
          </a:xfrm>
        </p:grpSpPr>
        <p:grpSp>
          <p:nvGrpSpPr>
            <p:cNvPr id="726" name=""/>
            <p:cNvGrpSpPr/>
            <p:nvPr/>
          </p:nvGrpSpPr>
          <p:grpSpPr>
            <a:xfrm>
              <a:off x="2248920" y="2125800"/>
              <a:ext cx="1579320" cy="1672200"/>
              <a:chOff x="2248920" y="2125800"/>
              <a:chExt cx="1579320" cy="1672200"/>
            </a:xfrm>
          </p:grpSpPr>
          <p:sp>
            <p:nvSpPr>
              <p:cNvPr id="727" name=""/>
              <p:cNvSpPr/>
              <p:nvPr/>
            </p:nvSpPr>
            <p:spPr>
              <a:xfrm flipV="1" rot="649200">
                <a:off x="2505960" y="2450880"/>
                <a:ext cx="1143000" cy="1067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 rot="649200">
                <a:off x="2287440" y="264852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 rot="649200">
                <a:off x="3000600" y="216432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 rot="649200">
                <a:off x="2860920" y="330156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 rot="649200">
                <a:off x="2440440" y="306576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 rot="649200">
                <a:off x="2522880" y="222804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 rot="649200">
                <a:off x="3332160" y="246060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4" name=""/>
            <p:cNvSpPr txBox="1"/>
            <p:nvPr/>
          </p:nvSpPr>
          <p:spPr>
            <a:xfrm>
              <a:off x="2739960" y="2859120"/>
              <a:ext cx="86688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ction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3430440" y="2598840"/>
              <a:ext cx="269640" cy="217080"/>
              <a:chOff x="3430440" y="2598840"/>
              <a:chExt cx="269640" cy="217080"/>
            </a:xfrm>
          </p:grpSpPr>
          <p:grpSp>
            <p:nvGrpSpPr>
              <p:cNvPr id="736" name=""/>
              <p:cNvGrpSpPr/>
              <p:nvPr/>
            </p:nvGrpSpPr>
            <p:grpSpPr>
              <a:xfrm>
                <a:off x="3430440" y="2706480"/>
                <a:ext cx="144000" cy="109440"/>
                <a:chOff x="3430440" y="2706480"/>
                <a:chExt cx="144000" cy="10944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3448440" y="2712960"/>
                  <a:ext cx="37800" cy="83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3480840" y="2710800"/>
                  <a:ext cx="37800" cy="83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3517920" y="2706480"/>
                  <a:ext cx="37800" cy="83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430440" y="2732760"/>
                  <a:ext cx="37800" cy="83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3462840" y="2730240"/>
                  <a:ext cx="37800" cy="83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3499920" y="2725920"/>
                  <a:ext cx="37800" cy="83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536640" y="2730960"/>
                  <a:ext cx="37800" cy="83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3432960" y="2598840"/>
                <a:ext cx="267120" cy="124920"/>
                <a:chOff x="3432960" y="2598840"/>
                <a:chExt cx="267120" cy="12492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3432960" y="2648880"/>
                  <a:ext cx="130320" cy="748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flipV="1">
                  <a:off x="3558240" y="2598840"/>
                  <a:ext cx="141840" cy="54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47" name=""/>
          <p:cNvGrpSpPr/>
          <p:nvPr/>
        </p:nvGrpSpPr>
        <p:grpSpPr>
          <a:xfrm>
            <a:off x="3831840" y="1336680"/>
            <a:ext cx="1647000" cy="1563120"/>
            <a:chOff x="3831840" y="1336680"/>
            <a:chExt cx="1647000" cy="1563120"/>
          </a:xfrm>
        </p:grpSpPr>
        <p:grpSp>
          <p:nvGrpSpPr>
            <p:cNvPr id="748" name=""/>
            <p:cNvGrpSpPr/>
            <p:nvPr/>
          </p:nvGrpSpPr>
          <p:grpSpPr>
            <a:xfrm>
              <a:off x="3831840" y="1336680"/>
              <a:ext cx="1647000" cy="1563120"/>
              <a:chOff x="3831840" y="1336680"/>
              <a:chExt cx="1647000" cy="1563120"/>
            </a:xfrm>
          </p:grpSpPr>
          <p:sp>
            <p:nvSpPr>
              <p:cNvPr id="749" name=""/>
              <p:cNvSpPr/>
              <p:nvPr/>
            </p:nvSpPr>
            <p:spPr>
              <a:xfrm flipV="1" rot="4197000">
                <a:off x="4028400" y="1645920"/>
                <a:ext cx="1143360" cy="1067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 rot="4197000">
                <a:off x="4175640" y="141444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 rot="4197000">
                <a:off x="4957200" y="177804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 rot="4197000">
                <a:off x="3909600" y="224136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V="1" rot="4197000">
                <a:off x="3896280" y="175968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V="1" rot="4197000">
                <a:off x="4657320" y="140076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V="1" rot="4197000">
                <a:off x="4873320" y="221436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6" name=""/>
            <p:cNvSpPr txBox="1"/>
            <p:nvPr/>
          </p:nvSpPr>
          <p:spPr>
            <a:xfrm>
              <a:off x="4191120" y="1981080"/>
              <a:ext cx="86652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h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4006800" y="2297160"/>
              <a:ext cx="239400" cy="333360"/>
              <a:chOff x="4006800" y="2297160"/>
              <a:chExt cx="239400" cy="333360"/>
            </a:xfrm>
          </p:grpSpPr>
          <p:sp>
            <p:nvSpPr>
              <p:cNvPr id="758" name=""/>
              <p:cNvSpPr/>
              <p:nvPr/>
            </p:nvSpPr>
            <p:spPr>
              <a:xfrm>
                <a:off x="4008960" y="2511000"/>
                <a:ext cx="232560" cy="11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006800" y="2364120"/>
                <a:ext cx="236520" cy="207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013640" y="2297160"/>
                <a:ext cx="232560" cy="11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V="1">
                <a:off x="4243320" y="2364120"/>
                <a:ext cx="0" cy="21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>
                <a:off x="4009320" y="2352240"/>
                <a:ext cx="0" cy="21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3" name=""/>
              <p:cNvGrpSpPr/>
              <p:nvPr/>
            </p:nvGrpSpPr>
            <p:grpSpPr>
              <a:xfrm>
                <a:off x="4058280" y="2443680"/>
                <a:ext cx="154800" cy="104400"/>
                <a:chOff x="4058280" y="2443680"/>
                <a:chExt cx="154800" cy="10440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4065840" y="2455200"/>
                  <a:ext cx="47160" cy="33120"/>
                </a:xfrm>
                <a:prstGeom prst="ellipse">
                  <a:avLst/>
                </a:prstGeom>
                <a:solidFill>
                  <a:srgbClr val="c41e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086720" y="2478600"/>
                  <a:ext cx="47160" cy="33120"/>
                </a:xfrm>
                <a:prstGeom prst="ellipse">
                  <a:avLst/>
                </a:prstGeom>
                <a:solidFill>
                  <a:srgbClr val="c41e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4058280" y="2472480"/>
                  <a:ext cx="47160" cy="33120"/>
                </a:xfrm>
                <a:prstGeom prst="ellipse">
                  <a:avLst/>
                </a:prstGeom>
                <a:solidFill>
                  <a:srgbClr val="c41e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4101480" y="2443680"/>
                  <a:ext cx="47160" cy="33120"/>
                </a:xfrm>
                <a:prstGeom prst="ellipse">
                  <a:avLst/>
                </a:prstGeom>
                <a:solidFill>
                  <a:srgbClr val="c41e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4122000" y="2467080"/>
                  <a:ext cx="47160" cy="33120"/>
                </a:xfrm>
                <a:prstGeom prst="ellipse">
                  <a:avLst/>
                </a:prstGeom>
                <a:solidFill>
                  <a:srgbClr val="c41e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4093560" y="2460960"/>
                  <a:ext cx="47160" cy="33120"/>
                </a:xfrm>
                <a:prstGeom prst="ellipse">
                  <a:avLst/>
                </a:prstGeom>
                <a:solidFill>
                  <a:srgbClr val="c41e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109760" y="2487960"/>
                  <a:ext cx="47160" cy="33120"/>
                </a:xfrm>
                <a:prstGeom prst="ellipse">
                  <a:avLst/>
                </a:prstGeom>
                <a:solidFill>
                  <a:srgbClr val="c41e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130280" y="2511360"/>
                  <a:ext cx="47160" cy="33120"/>
                </a:xfrm>
                <a:prstGeom prst="ellipse">
                  <a:avLst/>
                </a:prstGeom>
                <a:solidFill>
                  <a:srgbClr val="c41e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4101840" y="2505240"/>
                  <a:ext cx="47160" cy="33120"/>
                </a:xfrm>
                <a:prstGeom prst="ellipse">
                  <a:avLst/>
                </a:prstGeom>
                <a:solidFill>
                  <a:srgbClr val="c41e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4145040" y="2476080"/>
                  <a:ext cx="47160" cy="33120"/>
                </a:xfrm>
                <a:prstGeom prst="ellipse">
                  <a:avLst/>
                </a:prstGeom>
                <a:solidFill>
                  <a:srgbClr val="c41e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4165920" y="2499480"/>
                  <a:ext cx="47160" cy="33120"/>
                </a:xfrm>
                <a:prstGeom prst="ellipse">
                  <a:avLst/>
                </a:prstGeom>
                <a:solidFill>
                  <a:srgbClr val="c41e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4137120" y="2493360"/>
                  <a:ext cx="47160" cy="33120"/>
                </a:xfrm>
                <a:prstGeom prst="ellipse">
                  <a:avLst/>
                </a:prstGeom>
                <a:solidFill>
                  <a:srgbClr val="c41e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4066920" y="2491560"/>
                  <a:ext cx="47160" cy="33120"/>
                </a:xfrm>
                <a:prstGeom prst="ellipse">
                  <a:avLst/>
                </a:prstGeom>
                <a:solidFill>
                  <a:srgbClr val="c41e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4087800" y="2514960"/>
                  <a:ext cx="47160" cy="33120"/>
                </a:xfrm>
                <a:prstGeom prst="ellipse">
                  <a:avLst/>
                </a:prstGeom>
                <a:solidFill>
                  <a:srgbClr val="c41e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4059000" y="2508840"/>
                  <a:ext cx="47160" cy="33120"/>
                </a:xfrm>
                <a:prstGeom prst="ellipse">
                  <a:avLst/>
                </a:prstGeom>
                <a:solidFill>
                  <a:srgbClr val="c41e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4094640" y="2497320"/>
                  <a:ext cx="47160" cy="33120"/>
                </a:xfrm>
                <a:prstGeom prst="ellipse">
                  <a:avLst/>
                </a:prstGeom>
                <a:solidFill>
                  <a:srgbClr val="c41e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80" name=""/>
          <p:cNvSpPr/>
          <p:nvPr/>
        </p:nvSpPr>
        <p:spPr>
          <a:xfrm flipH="1" flipV="1">
            <a:off x="2730600" y="5152680"/>
            <a:ext cx="155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H="1" flipV="1">
            <a:off x="3594240" y="2706480"/>
            <a:ext cx="155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flipH="1" flipV="1">
            <a:off x="4122720" y="2463480"/>
            <a:ext cx="155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H="1" flipV="1">
            <a:off x="5322960" y="3568320"/>
            <a:ext cx="155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356640" y="57862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4156920" y="579132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11022E-016 C -0.00625 -0.00856 -0.01979 -0.03356 -0.0375 -0.05093 C -0.05521 -0.06829 -0.07569 -0.11343 -0.10608 -0.10394 C -0.13646 -0.09444 -0.20052 -0.01181 -0.21944 0.00648 E">
                                      <p:cBhvr>
                                        <p:cTn id="665" dur="2000" fill="hold"/>
                                        <p:tgtEl>
                                          <p:spTgt spid="7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67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8" dur="2000" fill="hold"/>
                                        <p:tgtEl>
                                          <p:spTgt spid="7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6000"/>
                            </p:stCondLst>
                            <p:childTnLst>
                              <p:par>
                                <p:cTn id="670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8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3.61111E-006 -7.77778E-006 C -0.02222 -0.00695 -0.04444 -0.01366 -0.05607 -0.03427 C -0.06771 -0.05487 -0.07569 -0.09792 -0.06944 -0.12362 C -0.06319 -0.14931 -0.03889 -0.17315 -0.01823 -0.18866 C 0.00243 -0.20417 0.03906 -0.2051 0.05486 -0.21644 C 0.07066 -0.22778 0.07292 -0.23959 0.07691 -0.25695 C 0.0809 -0.27431 0.07882 -0.3007 0.07934 -0.32038 C 0.07986 -0.34005 0.08038 -0.36644 0.08056 -0.3757 E">
                                      <p:cBhvr>
                                        <p:cTn id="678" dur="2000" fill="hold"/>
                                        <p:tgtEl>
                                          <p:spTgt spid="7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0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1" dur="2000" fill="hold"/>
                                        <p:tgtEl>
                                          <p:spTgt spid="7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6000"/>
                            </p:stCondLst>
                            <p:childTnLst>
                              <p:par>
                                <p:cTn id="683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8000"/>
                            </p:stCondLst>
                            <p:childTnLst>
                              <p:par>
                                <p:cTn id="6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8000"/>
                            </p:stCondLst>
                            <p:childTnLst>
                              <p:par>
                                <p:cTn id="6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-7.40741E-007 C 0.01112 0.00741 0.0224 0.01505 0.03664 0.00973 C 0.05087 0.0044 0.08265 -0.02014 0.08542 -0.0324 C 0.0882 -0.04467 0.05886 -0.05833 0.05365 -0.06342 E">
                                      <p:cBhvr>
                                        <p:cTn id="693" dur="2000" fill="hold"/>
                                        <p:tgtEl>
                                          <p:spTgt spid="7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7" dur="2000" fill="hold"/>
                                        <p:tgtEl>
                                          <p:spTgt spid="7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9" nodeType="afterEffect" fill="hold" presetClass="exit" presetID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9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90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900"/>
                            </p:stCondLst>
                            <p:childTnLst>
                              <p:par>
                                <p:cTn id="7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6 -0.02801 C 0.01597 -0.01528 0.09479 0.02037 0.11736 0.04861 C 0.14011 0.07685 0.1283 0.12152 0.13108 0.14097 E">
                                      <p:cBhvr>
                                        <p:cTn id="709" dur="2000" fill="hold"/>
                                        <p:tgtEl>
                                          <p:spTgt spid="7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7900"/>
                            </p:stCondLst>
                            <p:childTnLst>
                              <p:par>
                                <p:cTn id="711" nodeType="afterEffect" fill="hold" presetClass="exit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Initial Scr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71600" y="1249200"/>
            <a:ext cx="8305560" cy="510552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86200" y="3200400"/>
            <a:ext cx="152388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337480" y="3921480"/>
            <a:ext cx="1530360" cy="1648800"/>
            <a:chOff x="2337480" y="3921480"/>
            <a:chExt cx="1530360" cy="1648800"/>
          </a:xfrm>
        </p:grpSpPr>
        <p:sp>
          <p:nvSpPr>
            <p:cNvPr id="47" name=""/>
            <p:cNvSpPr/>
            <p:nvPr/>
          </p:nvSpPr>
          <p:spPr>
            <a:xfrm rot="21222000">
              <a:off x="2585880" y="4182840"/>
              <a:ext cx="1142640" cy="1067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21222000">
              <a:off x="2360880" y="4550400"/>
              <a:ext cx="45684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21222000">
              <a:off x="3033000" y="5089320"/>
              <a:ext cx="45684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21222000">
              <a:off x="2983680" y="3944880"/>
              <a:ext cx="45684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21222000">
              <a:off x="2545920" y="4146840"/>
              <a:ext cx="45684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21222000">
              <a:off x="2562120" y="4988160"/>
              <a:ext cx="45684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21222000">
              <a:off x="3386880" y="4820400"/>
              <a:ext cx="45684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427360" y="3921120"/>
            <a:ext cx="1532160" cy="1649160"/>
            <a:chOff x="5427360" y="3921120"/>
            <a:chExt cx="1532160" cy="1649160"/>
          </a:xfrm>
        </p:grpSpPr>
        <p:sp>
          <p:nvSpPr>
            <p:cNvPr id="55" name=""/>
            <p:cNvSpPr/>
            <p:nvPr/>
          </p:nvSpPr>
          <p:spPr>
            <a:xfrm rot="383400">
              <a:off x="5567760" y="4182840"/>
              <a:ext cx="114300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rot="383400">
              <a:off x="6477840" y="455112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rot="383400">
              <a:off x="5804280" y="508896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rot="383400">
              <a:off x="5855760" y="394488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rot="383400">
              <a:off x="6293160" y="414720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rot="383400">
              <a:off x="6275520" y="498852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rot="383400">
              <a:off x="5450760" y="481968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248920" y="2125800"/>
            <a:ext cx="1579320" cy="1672200"/>
            <a:chOff x="2248920" y="2125800"/>
            <a:chExt cx="1579320" cy="1672200"/>
          </a:xfrm>
        </p:grpSpPr>
        <p:sp>
          <p:nvSpPr>
            <p:cNvPr id="63" name=""/>
            <p:cNvSpPr/>
            <p:nvPr/>
          </p:nvSpPr>
          <p:spPr>
            <a:xfrm flipV="1" rot="649200">
              <a:off x="2505960" y="2450880"/>
              <a:ext cx="1143000" cy="1067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649200">
              <a:off x="2287440" y="264852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649200">
              <a:off x="3000600" y="216432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 rot="649200">
              <a:off x="2860920" y="330156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649200">
              <a:off x="2440440" y="306576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649200">
              <a:off x="2522880" y="222804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649200">
              <a:off x="3332160" y="246060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505480" y="2210400"/>
            <a:ext cx="1627200" cy="1685520"/>
            <a:chOff x="5505480" y="2210400"/>
            <a:chExt cx="1627200" cy="1685520"/>
          </a:xfrm>
        </p:grpSpPr>
        <p:sp>
          <p:nvSpPr>
            <p:cNvPr id="71" name=""/>
            <p:cNvSpPr/>
            <p:nvPr/>
          </p:nvSpPr>
          <p:spPr>
            <a:xfrm flipV="1" rot="20599800">
              <a:off x="5729040" y="2534040"/>
              <a:ext cx="1143000" cy="1067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flipV="1" rot="20599800">
              <a:off x="6619680" y="2675160"/>
              <a:ext cx="457200" cy="456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flipV="1" rot="20599800">
              <a:off x="5860800" y="2266200"/>
              <a:ext cx="457200" cy="456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 rot="20599800">
              <a:off x="6115680" y="3382920"/>
              <a:ext cx="457200" cy="456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 rot="20599800">
              <a:off x="6509880" y="3105720"/>
              <a:ext cx="457200" cy="456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 rot="20599800">
              <a:off x="6342480" y="2280960"/>
              <a:ext cx="457200" cy="456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 rot="20599800">
              <a:off x="5561280" y="2594520"/>
              <a:ext cx="457200" cy="456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831840" y="1336680"/>
            <a:ext cx="1647000" cy="1563120"/>
            <a:chOff x="3831840" y="1336680"/>
            <a:chExt cx="1647000" cy="1563120"/>
          </a:xfrm>
        </p:grpSpPr>
        <p:sp>
          <p:nvSpPr>
            <p:cNvPr id="79" name=""/>
            <p:cNvSpPr/>
            <p:nvPr/>
          </p:nvSpPr>
          <p:spPr>
            <a:xfrm flipV="1" rot="4197000">
              <a:off x="4028400" y="1645920"/>
              <a:ext cx="1143360" cy="1067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4197000">
              <a:off x="4175640" y="141444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 rot="4197000">
              <a:off x="4957200" y="177804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 rot="4197000">
              <a:off x="3909600" y="224136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 rot="4197000">
              <a:off x="3896280" y="175968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 rot="4197000">
              <a:off x="4657320" y="140076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 rot="4197000">
              <a:off x="4873320" y="221436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7696080" y="1371600"/>
            <a:ext cx="843480" cy="1295280"/>
            <a:chOff x="7696080" y="1371600"/>
            <a:chExt cx="843480" cy="1295280"/>
          </a:xfrm>
        </p:grpSpPr>
        <p:grpSp>
          <p:nvGrpSpPr>
            <p:cNvPr id="87" name=""/>
            <p:cNvGrpSpPr/>
            <p:nvPr/>
          </p:nvGrpSpPr>
          <p:grpSpPr>
            <a:xfrm>
              <a:off x="7696080" y="1752480"/>
              <a:ext cx="838080" cy="914400"/>
              <a:chOff x="7696080" y="1752480"/>
              <a:chExt cx="838080" cy="914400"/>
            </a:xfrm>
          </p:grpSpPr>
          <p:sp>
            <p:nvSpPr>
              <p:cNvPr id="88" name=""/>
              <p:cNvSpPr/>
              <p:nvPr/>
            </p:nvSpPr>
            <p:spPr>
              <a:xfrm flipH="1">
                <a:off x="7863840" y="1752480"/>
                <a:ext cx="670320" cy="91440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" name=""/>
              <p:cNvGrpSpPr/>
              <p:nvPr/>
            </p:nvGrpSpPr>
            <p:grpSpPr>
              <a:xfrm>
                <a:off x="7696080" y="1752480"/>
                <a:ext cx="419400" cy="914400"/>
                <a:chOff x="7696080" y="1752480"/>
                <a:chExt cx="419400" cy="914400"/>
              </a:xfrm>
            </p:grpSpPr>
            <p:sp>
              <p:nvSpPr>
                <p:cNvPr id="90" name=""/>
                <p:cNvSpPr/>
                <p:nvPr/>
              </p:nvSpPr>
              <p:spPr>
                <a:xfrm flipH="1">
                  <a:off x="7954200" y="211824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flipH="1">
                  <a:off x="7792920" y="1752480"/>
                  <a:ext cx="193320" cy="18288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H="1">
                  <a:off x="7825320" y="230112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flipH="1">
                  <a:off x="7889760" y="1935360"/>
                  <a:ext cx="193320" cy="182880"/>
                </a:xfrm>
                <a:prstGeom prst="parallelogram">
                  <a:avLst>
                    <a:gd name="adj" fmla="val 26427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 flipH="1">
                  <a:off x="7760520" y="1935360"/>
                  <a:ext cx="258120" cy="365760"/>
                </a:xfrm>
                <a:custGeom>
                  <a:avLst/>
                  <a:gdLst>
                    <a:gd name="textAreaLeft" fmla="*/ 56520 w 258120"/>
                    <a:gd name="textAreaRight" fmla="*/ 201600 w 258120"/>
                    <a:gd name="textAreaTop" fmla="*/ 80280 h 365760"/>
                    <a:gd name="textAreaBottom" fmla="*/ 285480 h 365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696080" y="193536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7825320" y="248400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7793280" y="2301120"/>
                  <a:ext cx="128880" cy="36576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H="1">
                  <a:off x="7696080" y="211824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" name=""/>
            <p:cNvSpPr/>
            <p:nvPr/>
          </p:nvSpPr>
          <p:spPr>
            <a:xfrm>
              <a:off x="7849800" y="137160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EX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438280" y="5715000"/>
            <a:ext cx="5105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come to OLPC Icon Spea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5715000"/>
            <a:ext cx="1143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600,2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4648320" y="5028840"/>
            <a:ext cx="155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1523880"/>
            <a:ext cx="22860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od around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8400" y="20178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525780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91520" y="3429000"/>
            <a:ext cx="7596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38880" y="3809880"/>
            <a:ext cx="381240" cy="7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48720" y="3429000"/>
            <a:ext cx="7596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96080" y="4114800"/>
            <a:ext cx="381240" cy="7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3429000"/>
            <a:ext cx="7596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153280" y="4495680"/>
            <a:ext cx="381240" cy="7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743200" y="4572000"/>
            <a:ext cx="8668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ers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666880" y="2819520"/>
            <a:ext cx="8668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la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191120" y="1981080"/>
            <a:ext cx="8665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867280" y="2895480"/>
            <a:ext cx="8668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c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715000" y="4572000"/>
            <a:ext cx="8668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scrib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7740000" y="5105520"/>
            <a:ext cx="297000" cy="393840"/>
            <a:chOff x="7740000" y="5105520"/>
            <a:chExt cx="297000" cy="393840"/>
          </a:xfrm>
        </p:grpSpPr>
        <p:sp>
          <p:nvSpPr>
            <p:cNvPr id="118" name=""/>
            <p:cNvSpPr/>
            <p:nvPr/>
          </p:nvSpPr>
          <p:spPr>
            <a:xfrm>
              <a:off x="7863840" y="5105520"/>
              <a:ext cx="45720" cy="1425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466400">
              <a:off x="7772040" y="5343120"/>
              <a:ext cx="91440" cy="142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9618200">
              <a:off x="7909560" y="5343120"/>
              <a:ext cx="91440" cy="142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9514400">
              <a:off x="7772400" y="5152680"/>
              <a:ext cx="91440" cy="142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2550000">
              <a:off x="7909200" y="5152320"/>
              <a:ext cx="91440" cy="142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72400" y="5200560"/>
              <a:ext cx="228600" cy="237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7772400" y="2971800"/>
            <a:ext cx="228600" cy="380520"/>
            <a:chOff x="7772400" y="2971800"/>
            <a:chExt cx="228600" cy="380520"/>
          </a:xfrm>
        </p:grpSpPr>
        <p:sp>
          <p:nvSpPr>
            <p:cNvPr id="125" name=""/>
            <p:cNvSpPr/>
            <p:nvPr/>
          </p:nvSpPr>
          <p:spPr>
            <a:xfrm>
              <a:off x="7818120" y="2971800"/>
              <a:ext cx="45720" cy="1904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909560" y="2971800"/>
              <a:ext cx="45720" cy="1904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72400" y="3114360"/>
              <a:ext cx="228600" cy="2379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460200" y="2903400"/>
            <a:ext cx="1159560" cy="585720"/>
            <a:chOff x="6460200" y="2903400"/>
            <a:chExt cx="1159560" cy="585720"/>
          </a:xfrm>
        </p:grpSpPr>
        <p:grpSp>
          <p:nvGrpSpPr>
            <p:cNvPr id="129" name=""/>
            <p:cNvGrpSpPr/>
            <p:nvPr/>
          </p:nvGrpSpPr>
          <p:grpSpPr>
            <a:xfrm>
              <a:off x="7145640" y="3048120"/>
              <a:ext cx="157680" cy="304560"/>
              <a:chOff x="7145640" y="3048120"/>
              <a:chExt cx="157680" cy="304560"/>
            </a:xfrm>
          </p:grpSpPr>
          <p:sp>
            <p:nvSpPr>
              <p:cNvPr id="130" name=""/>
              <p:cNvSpPr/>
              <p:nvPr/>
            </p:nvSpPr>
            <p:spPr>
              <a:xfrm rot="5400000">
                <a:off x="7098480" y="3171240"/>
                <a:ext cx="153000" cy="5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5400000">
                <a:off x="7101720" y="3151080"/>
                <a:ext cx="304560" cy="98640"/>
              </a:xfrm>
              <a:custGeom>
                <a:avLst/>
                <a:gdLst>
                  <a:gd name="textAreaLeft" fmla="*/ 66960 w 304560"/>
                  <a:gd name="textAreaRight" fmla="*/ 237600 w 304560"/>
                  <a:gd name="textAreaTop" fmla="*/ 21600 h 98640"/>
                  <a:gd name="textAreaBottom" fmla="*/ 77040 h 98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 rot="5400000">
              <a:off x="6641640" y="2721960"/>
              <a:ext cx="585720" cy="94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40" y="1482"/>
                  </a:moveTo>
                  <a:arcTo wR="10800" hR="10800" stAng="-7222276" swAng="3756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5340" y="1482"/>
                  </a:moveTo>
                  <a:arcTo wR="10800" hR="10800" stAng="-7222276" swAng="375678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5400000">
              <a:off x="6747120" y="2721960"/>
              <a:ext cx="585720" cy="94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40" y="1482"/>
                  </a:moveTo>
                  <a:arcTo wR="10800" hR="10800" stAng="-7222276" swAng="3756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5340" y="1482"/>
                  </a:moveTo>
                  <a:arcTo wR="10800" hR="10800" stAng="-7222276" swAng="375678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5400000">
              <a:off x="6852600" y="2721960"/>
              <a:ext cx="585720" cy="94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40" y="1482"/>
                  </a:moveTo>
                  <a:arcTo wR="10800" hR="10800" stAng="-7222276" swAng="3756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5340" y="1482"/>
                  </a:moveTo>
                  <a:arcTo wR="10800" hR="10800" stAng="-7222276" swAng="375678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629760" y="5036400"/>
            <a:ext cx="914040" cy="586440"/>
            <a:chOff x="6629760" y="5036400"/>
            <a:chExt cx="914040" cy="586440"/>
          </a:xfrm>
        </p:grpSpPr>
        <p:grpSp>
          <p:nvGrpSpPr>
            <p:cNvPr id="136" name=""/>
            <p:cNvGrpSpPr/>
            <p:nvPr/>
          </p:nvGrpSpPr>
          <p:grpSpPr>
            <a:xfrm>
              <a:off x="7290360" y="5181480"/>
              <a:ext cx="151920" cy="304920"/>
              <a:chOff x="7290360" y="5181480"/>
              <a:chExt cx="151920" cy="304920"/>
            </a:xfrm>
          </p:grpSpPr>
          <p:sp>
            <p:nvSpPr>
              <p:cNvPr id="137" name=""/>
              <p:cNvSpPr/>
              <p:nvPr/>
            </p:nvSpPr>
            <p:spPr>
              <a:xfrm rot="5400000">
                <a:off x="7242120" y="5305680"/>
                <a:ext cx="153000" cy="56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5400000">
                <a:off x="7242120" y="5286240"/>
                <a:ext cx="304920" cy="95040"/>
              </a:xfrm>
              <a:custGeom>
                <a:avLst/>
                <a:gdLst>
                  <a:gd name="textAreaLeft" fmla="*/ 66960 w 304920"/>
                  <a:gd name="textAreaRight" fmla="*/ 237960 w 304920"/>
                  <a:gd name="textAreaTop" fmla="*/ 20880 h 95040"/>
                  <a:gd name="textAreaBottom" fmla="*/ 74160 h 95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 rot="5400000">
              <a:off x="6793560" y="4872600"/>
              <a:ext cx="5864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40" y="1482"/>
                  </a:moveTo>
                  <a:arcTo wR="10800" hR="10800" stAng="-7222276" swAng="3756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5340" y="1482"/>
                  </a:moveTo>
                  <a:arcTo wR="10800" hR="10800" stAng="-7222276" swAng="375678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8153280" y="5105520"/>
            <a:ext cx="381240" cy="457200"/>
            <a:chOff x="8153280" y="5105520"/>
            <a:chExt cx="381240" cy="457200"/>
          </a:xfrm>
        </p:grpSpPr>
        <p:sp>
          <p:nvSpPr>
            <p:cNvPr id="141" name=""/>
            <p:cNvSpPr/>
            <p:nvPr/>
          </p:nvSpPr>
          <p:spPr>
            <a:xfrm>
              <a:off x="8153280" y="5105520"/>
              <a:ext cx="381240" cy="4572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70640" y="5236200"/>
              <a:ext cx="58320" cy="3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387640" y="5236200"/>
              <a:ext cx="58680" cy="3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358480" y="5301360"/>
              <a:ext cx="87840" cy="9792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8210520" y="5333400"/>
              <a:ext cx="292680" cy="1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" y="9340"/>
                  </a:moveTo>
                  <a:arcTo wR="10800" hR="10800" stAng="-10333692" swAng="10333692"/>
                  <a:lnTo>
                    <a:pt x="10800" y="10800"/>
                  </a:lnTo>
                  <a:close/>
                </a:path>
                <a:path fill="none" w="21600" h="21600">
                  <a:moveTo>
                    <a:pt x="99" y="9340"/>
                  </a:moveTo>
                  <a:arcTo wR="10800" hR="10800" stAng="-10333692" swAng="1033369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8153280" y="2971800"/>
            <a:ext cx="381240" cy="380880"/>
            <a:chOff x="8153280" y="2971800"/>
            <a:chExt cx="381240" cy="380880"/>
          </a:xfrm>
        </p:grpSpPr>
        <p:sp>
          <p:nvSpPr>
            <p:cNvPr id="147" name=""/>
            <p:cNvSpPr/>
            <p:nvPr/>
          </p:nvSpPr>
          <p:spPr>
            <a:xfrm>
              <a:off x="8153280" y="2971800"/>
              <a:ext cx="381240" cy="380880"/>
            </a:xfrm>
            <a:prstGeom prst="rect">
              <a:avLst/>
            </a:prstGeom>
            <a:solidFill>
              <a:srgbClr val="b9b4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222400" y="3059640"/>
              <a:ext cx="69120" cy="2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430480" y="3059640"/>
              <a:ext cx="69120" cy="2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 rot="21214800">
              <a:off x="8249760" y="3147480"/>
              <a:ext cx="277920" cy="1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" y="9340"/>
                  </a:moveTo>
                  <a:arcTo wR="10800" hR="10800" stAng="-10333692" swAng="10333692"/>
                  <a:lnTo>
                    <a:pt x="10800" y="10800"/>
                  </a:lnTo>
                  <a:close/>
                </a:path>
                <a:path fill="none" w="21600" h="21600">
                  <a:moveTo>
                    <a:pt x="99" y="9340"/>
                  </a:moveTo>
                  <a:arcTo wR="10800" hR="10800" stAng="-10333692" swAng="1033369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291880" y="3118320"/>
              <a:ext cx="138600" cy="8784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4419720" y="2971800"/>
            <a:ext cx="53316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3276720"/>
            <a:ext cx="53352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3886200"/>
            <a:ext cx="53352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33920" y="3886200"/>
            <a:ext cx="53316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4267080"/>
            <a:ext cx="53316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2971800"/>
            <a:ext cx="3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440240" y="3679920"/>
            <a:ext cx="420480" cy="335880"/>
            <a:chOff x="4440240" y="3679920"/>
            <a:chExt cx="420480" cy="335880"/>
          </a:xfrm>
        </p:grpSpPr>
        <p:sp>
          <p:nvSpPr>
            <p:cNvPr id="159" name=""/>
            <p:cNvSpPr/>
            <p:nvPr/>
          </p:nvSpPr>
          <p:spPr>
            <a:xfrm rot="4661400">
              <a:off x="4597920" y="3741480"/>
              <a:ext cx="168480" cy="157680"/>
            </a:xfrm>
            <a:custGeom>
              <a:avLst/>
              <a:gdLst>
                <a:gd name="textAreaLeft" fmla="*/ 48960 w 168480"/>
                <a:gd name="textAreaRight" fmla="*/ 119520 w 168480"/>
                <a:gd name="textAreaTop" fmla="*/ 45720 h 157680"/>
                <a:gd name="textAreaBottom" fmla="*/ 111960 h 15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3425" y="21600"/>
                  </a:lnTo>
                  <a:lnTo>
                    <a:pt x="8175" y="21600"/>
                  </a:lnTo>
                  <a:close/>
                </a:path>
              </a:pathLst>
            </a:cu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84040" y="3708000"/>
              <a:ext cx="27720" cy="16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29040" y="3679920"/>
              <a:ext cx="31680" cy="22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4440240" y="3740040"/>
              <a:ext cx="186480" cy="275760"/>
              <a:chOff x="4440240" y="3740040"/>
              <a:chExt cx="186480" cy="275760"/>
            </a:xfrm>
          </p:grpSpPr>
          <p:sp>
            <p:nvSpPr>
              <p:cNvPr id="163" name=""/>
              <p:cNvSpPr/>
              <p:nvPr/>
            </p:nvSpPr>
            <p:spPr>
              <a:xfrm>
                <a:off x="4440240" y="3764160"/>
                <a:ext cx="186480" cy="2174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20880" y="3786120"/>
                <a:ext cx="45360" cy="39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474800" y="3740040"/>
                <a:ext cx="151920" cy="275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79" y="5625"/>
                    </a:moveTo>
                    <a:arcTo wR="10800" hR="10800" stAng="-1717935" swAng="142443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79" y="5625"/>
                    </a:moveTo>
                    <a:arcTo wR="10800" hR="10800" stAng="-1717935" swAng="1424434"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733920" y="3276720"/>
            <a:ext cx="819000" cy="457200"/>
            <a:chOff x="3733920" y="3276720"/>
            <a:chExt cx="819000" cy="457200"/>
          </a:xfrm>
        </p:grpSpPr>
        <p:sp>
          <p:nvSpPr>
            <p:cNvPr id="167" name=""/>
            <p:cNvSpPr/>
            <p:nvPr/>
          </p:nvSpPr>
          <p:spPr>
            <a:xfrm>
              <a:off x="3733920" y="3276720"/>
              <a:ext cx="533160" cy="4572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41840" y="3344760"/>
              <a:ext cx="81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u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645000" y="3878280"/>
            <a:ext cx="497880" cy="455400"/>
            <a:chOff x="3645000" y="3878280"/>
            <a:chExt cx="497880" cy="455400"/>
          </a:xfrm>
        </p:grpSpPr>
        <p:grpSp>
          <p:nvGrpSpPr>
            <p:cNvPr id="170" name=""/>
            <p:cNvGrpSpPr/>
            <p:nvPr/>
          </p:nvGrpSpPr>
          <p:grpSpPr>
            <a:xfrm>
              <a:off x="3786840" y="3878280"/>
              <a:ext cx="356040" cy="455400"/>
              <a:chOff x="3786840" y="3878280"/>
              <a:chExt cx="356040" cy="455400"/>
            </a:xfrm>
          </p:grpSpPr>
          <p:sp>
            <p:nvSpPr>
              <p:cNvPr id="171" name=""/>
              <p:cNvSpPr/>
              <p:nvPr/>
            </p:nvSpPr>
            <p:spPr>
              <a:xfrm>
                <a:off x="3858840" y="3885840"/>
                <a:ext cx="31320" cy="1630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877200" y="3962880"/>
                <a:ext cx="246600" cy="208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902040" y="3998880"/>
                <a:ext cx="195840" cy="14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786840" y="4176360"/>
                <a:ext cx="348480" cy="157320"/>
              </a:xfrm>
              <a:prstGeom prst="parallelogram">
                <a:avLst>
                  <a:gd name="adj" fmla="val 5537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ff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854520" y="4200120"/>
                <a:ext cx="230760" cy="68400"/>
              </a:xfrm>
              <a:prstGeom prst="parallelogram">
                <a:avLst>
                  <a:gd name="adj" fmla="val 53854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832200" y="4269240"/>
                <a:ext cx="218520" cy="40680"/>
              </a:xfrm>
              <a:prstGeom prst="parallelogram">
                <a:avLst>
                  <a:gd name="adj" fmla="val 399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111560" y="3878280"/>
                <a:ext cx="31320" cy="1630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3645000" y="3975480"/>
              <a:ext cx="178560" cy="227160"/>
            </a:xfrm>
            <a:prstGeom prst="rightArrow">
              <a:avLst>
                <a:gd name="adj1" fmla="val 66667"/>
                <a:gd name="adj2" fmla="val 5816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167440" y="3886200"/>
            <a:ext cx="455400" cy="469800"/>
            <a:chOff x="5167440" y="3886200"/>
            <a:chExt cx="455400" cy="469800"/>
          </a:xfrm>
        </p:grpSpPr>
        <p:grpSp>
          <p:nvGrpSpPr>
            <p:cNvPr id="180" name=""/>
            <p:cNvGrpSpPr/>
            <p:nvPr/>
          </p:nvGrpSpPr>
          <p:grpSpPr>
            <a:xfrm>
              <a:off x="5167440" y="3886200"/>
              <a:ext cx="325440" cy="469800"/>
              <a:chOff x="5167440" y="3886200"/>
              <a:chExt cx="325440" cy="469800"/>
            </a:xfrm>
          </p:grpSpPr>
          <p:sp>
            <p:nvSpPr>
              <p:cNvPr id="181" name=""/>
              <p:cNvSpPr/>
              <p:nvPr/>
            </p:nvSpPr>
            <p:spPr>
              <a:xfrm flipH="1">
                <a:off x="5398560" y="3894120"/>
                <a:ext cx="28800" cy="1681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5185080" y="3973320"/>
                <a:ext cx="225360" cy="214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5208120" y="4010400"/>
                <a:ext cx="178920" cy="150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5173920" y="4193640"/>
                <a:ext cx="318600" cy="162360"/>
              </a:xfrm>
              <a:prstGeom prst="parallelogram">
                <a:avLst>
                  <a:gd name="adj" fmla="val 4905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ff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5220000" y="4218120"/>
                <a:ext cx="210960" cy="70560"/>
              </a:xfrm>
              <a:prstGeom prst="parallelogram">
                <a:avLst>
                  <a:gd name="adj" fmla="val 47726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5251320" y="4289040"/>
                <a:ext cx="199800" cy="41760"/>
              </a:xfrm>
              <a:prstGeom prst="parallelogram">
                <a:avLst>
                  <a:gd name="adj" fmla="val 3557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5167440" y="3886200"/>
                <a:ext cx="28800" cy="1677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5459760" y="3986280"/>
              <a:ext cx="163080" cy="234360"/>
            </a:xfrm>
            <a:prstGeom prst="rightArrow">
              <a:avLst>
                <a:gd name="adj1" fmla="val 66667"/>
                <a:gd name="adj2" fmla="val 5816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498920" y="4280040"/>
            <a:ext cx="382680" cy="409320"/>
            <a:chOff x="4498920" y="4280040"/>
            <a:chExt cx="382680" cy="409320"/>
          </a:xfrm>
        </p:grpSpPr>
        <p:sp>
          <p:nvSpPr>
            <p:cNvPr id="190" name=""/>
            <p:cNvSpPr/>
            <p:nvPr/>
          </p:nvSpPr>
          <p:spPr>
            <a:xfrm>
              <a:off x="4498920" y="4509000"/>
              <a:ext cx="375840" cy="180360"/>
            </a:xfrm>
            <a:custGeom>
              <a:avLst/>
              <a:gdLst>
                <a:gd name="textAreaLeft" fmla="*/ 82440 w 375840"/>
                <a:gd name="textAreaRight" fmla="*/ 293400 w 375840"/>
                <a:gd name="textAreaTop" fmla="*/ 39600 h 180360"/>
                <a:gd name="textAreaBottom" fmla="*/ 140760 h 18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98920" y="4462920"/>
              <a:ext cx="382680" cy="97920"/>
            </a:xfrm>
            <a:prstGeom prst="ellipse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65520" y="4280040"/>
              <a:ext cx="232560" cy="178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5062680" y="3384720"/>
            <a:ext cx="59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5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5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0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5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75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8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s of Initial Scr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1600" y="1249200"/>
            <a:ext cx="8305560" cy="510552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7696080" y="1371600"/>
            <a:ext cx="843480" cy="1295280"/>
            <a:chOff x="7696080" y="1371600"/>
            <a:chExt cx="843480" cy="1295280"/>
          </a:xfrm>
        </p:grpSpPr>
        <p:grpSp>
          <p:nvGrpSpPr>
            <p:cNvPr id="197" name=""/>
            <p:cNvGrpSpPr/>
            <p:nvPr/>
          </p:nvGrpSpPr>
          <p:grpSpPr>
            <a:xfrm>
              <a:off x="7696080" y="1752480"/>
              <a:ext cx="838080" cy="914400"/>
              <a:chOff x="7696080" y="1752480"/>
              <a:chExt cx="838080" cy="914400"/>
            </a:xfrm>
          </p:grpSpPr>
          <p:sp>
            <p:nvSpPr>
              <p:cNvPr id="198" name=""/>
              <p:cNvSpPr/>
              <p:nvPr/>
            </p:nvSpPr>
            <p:spPr>
              <a:xfrm flipH="1">
                <a:off x="7863840" y="1752480"/>
                <a:ext cx="670320" cy="91440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7696080" y="1752480"/>
                <a:ext cx="419400" cy="914400"/>
                <a:chOff x="7696080" y="1752480"/>
                <a:chExt cx="419400" cy="914400"/>
              </a:xfrm>
            </p:grpSpPr>
            <p:sp>
              <p:nvSpPr>
                <p:cNvPr id="200" name=""/>
                <p:cNvSpPr/>
                <p:nvPr/>
              </p:nvSpPr>
              <p:spPr>
                <a:xfrm flipH="1">
                  <a:off x="7954200" y="211824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>
                  <a:off x="7792920" y="1752480"/>
                  <a:ext cx="193320" cy="18288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H="1">
                  <a:off x="7825320" y="230112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H="1">
                  <a:off x="7889760" y="1935360"/>
                  <a:ext cx="193320" cy="182880"/>
                </a:xfrm>
                <a:prstGeom prst="parallelogram">
                  <a:avLst>
                    <a:gd name="adj" fmla="val 26427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>
                  <a:off x="7760520" y="1935360"/>
                  <a:ext cx="258120" cy="365760"/>
                </a:xfrm>
                <a:custGeom>
                  <a:avLst/>
                  <a:gdLst>
                    <a:gd name="textAreaLeft" fmla="*/ 56520 w 258120"/>
                    <a:gd name="textAreaRight" fmla="*/ 201600 w 258120"/>
                    <a:gd name="textAreaTop" fmla="*/ 80280 h 365760"/>
                    <a:gd name="textAreaBottom" fmla="*/ 285480 h 365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696080" y="193536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825320" y="248400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793280" y="2301120"/>
                  <a:ext cx="128880" cy="36576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>
                  <a:off x="7696080" y="211824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9" name=""/>
            <p:cNvSpPr/>
            <p:nvPr/>
          </p:nvSpPr>
          <p:spPr>
            <a:xfrm>
              <a:off x="7849800" y="137160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EX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2438280" y="5715000"/>
            <a:ext cx="5105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come to OLPC Icon Spea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5715000"/>
            <a:ext cx="1143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600,2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4167360" y="4812840"/>
            <a:ext cx="155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1523880"/>
            <a:ext cx="22860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od around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18400" y="20178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7240" y="525780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91520" y="3429000"/>
            <a:ext cx="7596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238880" y="3809880"/>
            <a:ext cx="381240" cy="7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48720" y="3429000"/>
            <a:ext cx="7596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696080" y="4114800"/>
            <a:ext cx="381240" cy="7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305920" y="3429000"/>
            <a:ext cx="7596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153280" y="4495680"/>
            <a:ext cx="381240" cy="7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248920" y="1336680"/>
            <a:ext cx="4883760" cy="4233600"/>
            <a:chOff x="2248920" y="1336680"/>
            <a:chExt cx="4883760" cy="4233600"/>
          </a:xfrm>
        </p:grpSpPr>
        <p:grpSp>
          <p:nvGrpSpPr>
            <p:cNvPr id="223" name=""/>
            <p:cNvGrpSpPr/>
            <p:nvPr/>
          </p:nvGrpSpPr>
          <p:grpSpPr>
            <a:xfrm>
              <a:off x="2337480" y="3921480"/>
              <a:ext cx="1530360" cy="1648800"/>
              <a:chOff x="2337480" y="3921480"/>
              <a:chExt cx="1530360" cy="1648800"/>
            </a:xfrm>
          </p:grpSpPr>
          <p:sp>
            <p:nvSpPr>
              <p:cNvPr id="224" name=""/>
              <p:cNvSpPr/>
              <p:nvPr/>
            </p:nvSpPr>
            <p:spPr>
              <a:xfrm rot="21222000">
                <a:off x="2585880" y="4182840"/>
                <a:ext cx="1142640" cy="1067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21222000">
                <a:off x="2360880" y="455040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21222000">
                <a:off x="3033000" y="508932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21222000">
                <a:off x="2983680" y="394488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21222000">
                <a:off x="2545920" y="414684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21222000">
                <a:off x="2562120" y="498816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21222000">
                <a:off x="3386880" y="482040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5427360" y="3921120"/>
              <a:ext cx="1532160" cy="1649160"/>
              <a:chOff x="5427360" y="3921120"/>
              <a:chExt cx="1532160" cy="1649160"/>
            </a:xfrm>
          </p:grpSpPr>
          <p:sp>
            <p:nvSpPr>
              <p:cNvPr id="232" name=""/>
              <p:cNvSpPr/>
              <p:nvPr/>
            </p:nvSpPr>
            <p:spPr>
              <a:xfrm rot="383400">
                <a:off x="5567760" y="4182840"/>
                <a:ext cx="1143000" cy="10666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 rot="383400">
                <a:off x="6477840" y="455112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 rot="383400">
                <a:off x="5804280" y="508896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 rot="383400">
                <a:off x="5855760" y="394488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 rot="383400">
                <a:off x="6293160" y="414720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 rot="383400">
                <a:off x="6275520" y="498852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 rot="383400">
                <a:off x="5450760" y="481968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2248920" y="2125800"/>
              <a:ext cx="1579320" cy="1672200"/>
              <a:chOff x="2248920" y="2125800"/>
              <a:chExt cx="1579320" cy="1672200"/>
            </a:xfrm>
          </p:grpSpPr>
          <p:sp>
            <p:nvSpPr>
              <p:cNvPr id="240" name=""/>
              <p:cNvSpPr/>
              <p:nvPr/>
            </p:nvSpPr>
            <p:spPr>
              <a:xfrm flipV="1" rot="649200">
                <a:off x="2505960" y="2450880"/>
                <a:ext cx="1143000" cy="1067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 rot="649200">
                <a:off x="2287440" y="264852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 rot="649200">
                <a:off x="3000600" y="216432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 rot="649200">
                <a:off x="2860920" y="330156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 rot="649200">
                <a:off x="2440440" y="306576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 rot="649200">
                <a:off x="2522880" y="222804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 rot="649200">
                <a:off x="3332160" y="246060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5505480" y="2210400"/>
              <a:ext cx="1627200" cy="1685520"/>
              <a:chOff x="5505480" y="2210400"/>
              <a:chExt cx="1627200" cy="1685520"/>
            </a:xfrm>
          </p:grpSpPr>
          <p:sp>
            <p:nvSpPr>
              <p:cNvPr id="248" name=""/>
              <p:cNvSpPr/>
              <p:nvPr/>
            </p:nvSpPr>
            <p:spPr>
              <a:xfrm flipV="1" rot="20599800">
                <a:off x="5729040" y="2534040"/>
                <a:ext cx="1143000" cy="1067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 rot="20599800">
                <a:off x="6619680" y="2675160"/>
                <a:ext cx="457200" cy="456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 flipV="1" rot="20599800">
                <a:off x="5860800" y="2266200"/>
                <a:ext cx="457200" cy="456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 flipV="1" rot="20599800">
                <a:off x="6115680" y="3382920"/>
                <a:ext cx="457200" cy="456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 rot="20599800">
                <a:off x="6509880" y="3105720"/>
                <a:ext cx="457200" cy="456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flipV="1" rot="20599800">
                <a:off x="6342480" y="2280960"/>
                <a:ext cx="457200" cy="456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flipV="1" rot="20599800">
                <a:off x="5561280" y="2594520"/>
                <a:ext cx="457200" cy="456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3831840" y="1336680"/>
              <a:ext cx="1647000" cy="1563120"/>
              <a:chOff x="3831840" y="1336680"/>
              <a:chExt cx="1647000" cy="1563120"/>
            </a:xfrm>
          </p:grpSpPr>
          <p:sp>
            <p:nvSpPr>
              <p:cNvPr id="256" name=""/>
              <p:cNvSpPr/>
              <p:nvPr/>
            </p:nvSpPr>
            <p:spPr>
              <a:xfrm flipV="1" rot="4197000">
                <a:off x="4028400" y="1645920"/>
                <a:ext cx="1143360" cy="1067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 rot="4197000">
                <a:off x="4175640" y="141444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 rot="4197000">
                <a:off x="4957200" y="177804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 rot="4197000">
                <a:off x="3909600" y="224136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 rot="4197000">
                <a:off x="3896280" y="175968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 rot="4197000">
                <a:off x="4657320" y="140076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 rot="4197000">
                <a:off x="4873320" y="221436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 txBox="1"/>
            <p:nvPr/>
          </p:nvSpPr>
          <p:spPr>
            <a:xfrm>
              <a:off x="2743200" y="4572000"/>
              <a:ext cx="86688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erson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2666880" y="2819520"/>
              <a:ext cx="86688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lac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4191120" y="1981080"/>
              <a:ext cx="86652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h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5867280" y="2895480"/>
              <a:ext cx="86688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ction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5715000" y="4572000"/>
              <a:ext cx="86688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escrib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7740000" y="5105520"/>
            <a:ext cx="297000" cy="393840"/>
            <a:chOff x="7740000" y="5105520"/>
            <a:chExt cx="297000" cy="393840"/>
          </a:xfrm>
        </p:grpSpPr>
        <p:sp>
          <p:nvSpPr>
            <p:cNvPr id="269" name=""/>
            <p:cNvSpPr/>
            <p:nvPr/>
          </p:nvSpPr>
          <p:spPr>
            <a:xfrm>
              <a:off x="7863840" y="5105520"/>
              <a:ext cx="45720" cy="1425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466400">
              <a:off x="7772040" y="5343120"/>
              <a:ext cx="91440" cy="142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9618200">
              <a:off x="7909560" y="5343120"/>
              <a:ext cx="91440" cy="142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9514400">
              <a:off x="7772400" y="5152680"/>
              <a:ext cx="91440" cy="142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2550000">
              <a:off x="7909200" y="5152320"/>
              <a:ext cx="91440" cy="142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772400" y="5200560"/>
              <a:ext cx="228600" cy="237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7772400" y="2971800"/>
            <a:ext cx="228600" cy="380520"/>
            <a:chOff x="7772400" y="2971800"/>
            <a:chExt cx="228600" cy="380520"/>
          </a:xfrm>
        </p:grpSpPr>
        <p:sp>
          <p:nvSpPr>
            <p:cNvPr id="276" name=""/>
            <p:cNvSpPr/>
            <p:nvPr/>
          </p:nvSpPr>
          <p:spPr>
            <a:xfrm>
              <a:off x="7818120" y="2971800"/>
              <a:ext cx="45720" cy="1904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09560" y="2971800"/>
              <a:ext cx="45720" cy="1904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772400" y="3114360"/>
              <a:ext cx="228600" cy="2379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6460200" y="2903400"/>
            <a:ext cx="1159560" cy="585720"/>
            <a:chOff x="6460200" y="2903400"/>
            <a:chExt cx="1159560" cy="585720"/>
          </a:xfrm>
        </p:grpSpPr>
        <p:grpSp>
          <p:nvGrpSpPr>
            <p:cNvPr id="280" name=""/>
            <p:cNvGrpSpPr/>
            <p:nvPr/>
          </p:nvGrpSpPr>
          <p:grpSpPr>
            <a:xfrm>
              <a:off x="7145640" y="3048120"/>
              <a:ext cx="157680" cy="304560"/>
              <a:chOff x="7145640" y="3048120"/>
              <a:chExt cx="157680" cy="304560"/>
            </a:xfrm>
          </p:grpSpPr>
          <p:sp>
            <p:nvSpPr>
              <p:cNvPr id="281" name=""/>
              <p:cNvSpPr/>
              <p:nvPr/>
            </p:nvSpPr>
            <p:spPr>
              <a:xfrm rot="5400000">
                <a:off x="7098480" y="3171240"/>
                <a:ext cx="153000" cy="5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5400000">
                <a:off x="7101720" y="3151080"/>
                <a:ext cx="304560" cy="98640"/>
              </a:xfrm>
              <a:custGeom>
                <a:avLst/>
                <a:gdLst>
                  <a:gd name="textAreaLeft" fmla="*/ 66960 w 304560"/>
                  <a:gd name="textAreaRight" fmla="*/ 237600 w 304560"/>
                  <a:gd name="textAreaTop" fmla="*/ 21600 h 98640"/>
                  <a:gd name="textAreaBottom" fmla="*/ 77040 h 98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 rot="5400000">
              <a:off x="6641640" y="2721960"/>
              <a:ext cx="585720" cy="94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40" y="1482"/>
                  </a:moveTo>
                  <a:arcTo wR="10800" hR="10800" stAng="-7222276" swAng="3756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5340" y="1482"/>
                  </a:moveTo>
                  <a:arcTo wR="10800" hR="10800" stAng="-7222276" swAng="375678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5400000">
              <a:off x="6747120" y="2721960"/>
              <a:ext cx="585720" cy="94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40" y="1482"/>
                  </a:moveTo>
                  <a:arcTo wR="10800" hR="10800" stAng="-7222276" swAng="3756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5340" y="1482"/>
                  </a:moveTo>
                  <a:arcTo wR="10800" hR="10800" stAng="-7222276" swAng="375678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5400000">
              <a:off x="6852600" y="2721960"/>
              <a:ext cx="585720" cy="94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40" y="1482"/>
                  </a:moveTo>
                  <a:arcTo wR="10800" hR="10800" stAng="-7222276" swAng="3756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5340" y="1482"/>
                  </a:moveTo>
                  <a:arcTo wR="10800" hR="10800" stAng="-7222276" swAng="375678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6629760" y="5036400"/>
            <a:ext cx="914040" cy="586440"/>
            <a:chOff x="6629760" y="5036400"/>
            <a:chExt cx="914040" cy="586440"/>
          </a:xfrm>
        </p:grpSpPr>
        <p:grpSp>
          <p:nvGrpSpPr>
            <p:cNvPr id="287" name=""/>
            <p:cNvGrpSpPr/>
            <p:nvPr/>
          </p:nvGrpSpPr>
          <p:grpSpPr>
            <a:xfrm>
              <a:off x="7290360" y="5181480"/>
              <a:ext cx="151920" cy="304920"/>
              <a:chOff x="7290360" y="5181480"/>
              <a:chExt cx="151920" cy="304920"/>
            </a:xfrm>
          </p:grpSpPr>
          <p:sp>
            <p:nvSpPr>
              <p:cNvPr id="288" name=""/>
              <p:cNvSpPr/>
              <p:nvPr/>
            </p:nvSpPr>
            <p:spPr>
              <a:xfrm rot="5400000">
                <a:off x="7242120" y="5305680"/>
                <a:ext cx="153000" cy="56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5400000">
                <a:off x="7242120" y="5286240"/>
                <a:ext cx="304920" cy="95040"/>
              </a:xfrm>
              <a:custGeom>
                <a:avLst/>
                <a:gdLst>
                  <a:gd name="textAreaLeft" fmla="*/ 66960 w 304920"/>
                  <a:gd name="textAreaRight" fmla="*/ 237960 w 304920"/>
                  <a:gd name="textAreaTop" fmla="*/ 20880 h 95040"/>
                  <a:gd name="textAreaBottom" fmla="*/ 74160 h 95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rot="5400000">
              <a:off x="6793560" y="4872600"/>
              <a:ext cx="5864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40" y="1482"/>
                  </a:moveTo>
                  <a:arcTo wR="10800" hR="10800" stAng="-7222276" swAng="3756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5340" y="1482"/>
                  </a:moveTo>
                  <a:arcTo wR="10800" hR="10800" stAng="-7222276" swAng="375678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8153280" y="5105520"/>
            <a:ext cx="381240" cy="457200"/>
            <a:chOff x="8153280" y="5105520"/>
            <a:chExt cx="381240" cy="457200"/>
          </a:xfrm>
        </p:grpSpPr>
        <p:sp>
          <p:nvSpPr>
            <p:cNvPr id="292" name=""/>
            <p:cNvSpPr/>
            <p:nvPr/>
          </p:nvSpPr>
          <p:spPr>
            <a:xfrm>
              <a:off x="8153280" y="5105520"/>
              <a:ext cx="381240" cy="4572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270640" y="5236200"/>
              <a:ext cx="58320" cy="3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387640" y="5236200"/>
              <a:ext cx="58680" cy="3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358480" y="5301360"/>
              <a:ext cx="87840" cy="9792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8210520" y="5333400"/>
              <a:ext cx="292680" cy="1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" y="9340"/>
                  </a:moveTo>
                  <a:arcTo wR="10800" hR="10800" stAng="-10333692" swAng="10333692"/>
                  <a:lnTo>
                    <a:pt x="10800" y="10800"/>
                  </a:lnTo>
                  <a:close/>
                </a:path>
                <a:path fill="none" w="21600" h="21600">
                  <a:moveTo>
                    <a:pt x="99" y="9340"/>
                  </a:moveTo>
                  <a:arcTo wR="10800" hR="10800" stAng="-10333692" swAng="1033369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8153280" y="2971800"/>
            <a:ext cx="381240" cy="380880"/>
            <a:chOff x="8153280" y="2971800"/>
            <a:chExt cx="381240" cy="380880"/>
          </a:xfrm>
        </p:grpSpPr>
        <p:sp>
          <p:nvSpPr>
            <p:cNvPr id="298" name=""/>
            <p:cNvSpPr/>
            <p:nvPr/>
          </p:nvSpPr>
          <p:spPr>
            <a:xfrm>
              <a:off x="8153280" y="2971800"/>
              <a:ext cx="381240" cy="380880"/>
            </a:xfrm>
            <a:prstGeom prst="rect">
              <a:avLst/>
            </a:prstGeom>
            <a:solidFill>
              <a:srgbClr val="b9b4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222400" y="3059640"/>
              <a:ext cx="69120" cy="2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430480" y="3059640"/>
              <a:ext cx="69120" cy="2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 rot="21214800">
              <a:off x="8249760" y="3147480"/>
              <a:ext cx="277920" cy="1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" y="9340"/>
                  </a:moveTo>
                  <a:arcTo wR="10800" hR="10800" stAng="-10333692" swAng="10333692"/>
                  <a:lnTo>
                    <a:pt x="10800" y="10800"/>
                  </a:lnTo>
                  <a:close/>
                </a:path>
                <a:path fill="none" w="21600" h="21600">
                  <a:moveTo>
                    <a:pt x="99" y="9340"/>
                  </a:moveTo>
                  <a:arcTo wR="10800" hR="10800" stAng="-10333692" swAng="1033369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291880" y="3118320"/>
              <a:ext cx="138600" cy="8784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Cloud"/>
          <p:cNvSpPr/>
          <p:nvPr/>
        </p:nvSpPr>
        <p:spPr>
          <a:xfrm>
            <a:off x="1590840" y="1087560"/>
            <a:ext cx="2336760" cy="54756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he current subject of convers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Cloud"/>
          <p:cNvSpPr/>
          <p:nvPr/>
        </p:nvSpPr>
        <p:spPr>
          <a:xfrm>
            <a:off x="608040" y="4352760"/>
            <a:ext cx="1325520" cy="88920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he current mouse position on scre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Cloud"/>
          <p:cNvSpPr/>
          <p:nvPr/>
        </p:nvSpPr>
        <p:spPr>
          <a:xfrm>
            <a:off x="6415200" y="1344600"/>
            <a:ext cx="1371600" cy="76356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he way to quit, saving all sett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Cloud"/>
          <p:cNvSpPr/>
          <p:nvPr/>
        </p:nvSpPr>
        <p:spPr>
          <a:xfrm>
            <a:off x="6811920" y="5689440"/>
            <a:ext cx="2168640" cy="56052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he sentence to be spoken (as its buil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Cloud"/>
          <p:cNvSpPr/>
          <p:nvPr/>
        </p:nvSpPr>
        <p:spPr>
          <a:xfrm>
            <a:off x="7723080" y="3333600"/>
            <a:ext cx="1265400" cy="115596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Controls for volume, pace, and voice for spee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loud"/>
          <p:cNvSpPr/>
          <p:nvPr/>
        </p:nvSpPr>
        <p:spPr>
          <a:xfrm>
            <a:off x="4172040" y="4954680"/>
            <a:ext cx="939600" cy="63000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he curs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645000" y="2971800"/>
            <a:ext cx="1977840" cy="1752480"/>
            <a:chOff x="3645000" y="2971800"/>
            <a:chExt cx="1977840" cy="1752480"/>
          </a:xfrm>
        </p:grpSpPr>
        <p:sp>
          <p:nvSpPr>
            <p:cNvPr id="310" name=""/>
            <p:cNvSpPr/>
            <p:nvPr/>
          </p:nvSpPr>
          <p:spPr>
            <a:xfrm>
              <a:off x="3886200" y="3200400"/>
              <a:ext cx="1523880" cy="13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419720" y="2971800"/>
              <a:ext cx="533160" cy="4572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029200" y="3276720"/>
              <a:ext cx="533520" cy="4572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029200" y="3886200"/>
              <a:ext cx="533520" cy="4572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733920" y="3886200"/>
              <a:ext cx="533160" cy="4572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19720" y="4267080"/>
              <a:ext cx="533160" cy="4572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495680" y="2971800"/>
              <a:ext cx="37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4562640" y="3643200"/>
              <a:ext cx="420120" cy="335880"/>
              <a:chOff x="4562640" y="3643200"/>
              <a:chExt cx="420120" cy="335880"/>
            </a:xfrm>
          </p:grpSpPr>
          <p:sp>
            <p:nvSpPr>
              <p:cNvPr id="318" name=""/>
              <p:cNvSpPr/>
              <p:nvPr/>
            </p:nvSpPr>
            <p:spPr>
              <a:xfrm rot="4661400">
                <a:off x="4719960" y="3704760"/>
                <a:ext cx="168480" cy="157680"/>
              </a:xfrm>
              <a:custGeom>
                <a:avLst/>
                <a:gdLst>
                  <a:gd name="textAreaLeft" fmla="*/ 48960 w 168480"/>
                  <a:gd name="textAreaRight" fmla="*/ 119520 w 168480"/>
                  <a:gd name="textAreaTop" fmla="*/ 45720 h 157680"/>
                  <a:gd name="textAreaBottom" fmla="*/ 111960 h 157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425" y="21600"/>
                    </a:lnTo>
                    <a:lnTo>
                      <a:pt x="8175" y="21600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906080" y="3671280"/>
                <a:ext cx="27720" cy="16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51080" y="3643200"/>
                <a:ext cx="31680" cy="22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4562640" y="3703320"/>
                <a:ext cx="186480" cy="275760"/>
                <a:chOff x="4562640" y="3703320"/>
                <a:chExt cx="186480" cy="27576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4562640" y="3727440"/>
                  <a:ext cx="186120" cy="21744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4643280" y="3749400"/>
                  <a:ext cx="45360" cy="39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4597200" y="3703320"/>
                  <a:ext cx="151920" cy="275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279" y="5625"/>
                      </a:moveTo>
                      <a:arcTo wR="10800" hR="10800" stAng="-1717935" swAng="14244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279" y="5625"/>
                      </a:moveTo>
                      <a:arcTo wR="10800" hR="10800" stAng="-1717935" swAng="1424434"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5" name=""/>
            <p:cNvGrpSpPr/>
            <p:nvPr/>
          </p:nvGrpSpPr>
          <p:grpSpPr>
            <a:xfrm>
              <a:off x="3733920" y="3276720"/>
              <a:ext cx="819000" cy="457200"/>
              <a:chOff x="3733920" y="3276720"/>
              <a:chExt cx="819000" cy="457200"/>
            </a:xfrm>
          </p:grpSpPr>
          <p:sp>
            <p:nvSpPr>
              <p:cNvPr id="326" name=""/>
              <p:cNvSpPr/>
              <p:nvPr/>
            </p:nvSpPr>
            <p:spPr>
              <a:xfrm>
                <a:off x="3733920" y="3276720"/>
                <a:ext cx="533160" cy="45720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741840" y="3344760"/>
                <a:ext cx="811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u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3645000" y="3878280"/>
              <a:ext cx="497880" cy="455400"/>
              <a:chOff x="3645000" y="3878280"/>
              <a:chExt cx="497880" cy="455400"/>
            </a:xfrm>
          </p:grpSpPr>
          <p:grpSp>
            <p:nvGrpSpPr>
              <p:cNvPr id="329" name=""/>
              <p:cNvGrpSpPr/>
              <p:nvPr/>
            </p:nvGrpSpPr>
            <p:grpSpPr>
              <a:xfrm>
                <a:off x="3786840" y="3878280"/>
                <a:ext cx="356040" cy="455400"/>
                <a:chOff x="3786840" y="3878280"/>
                <a:chExt cx="356040" cy="4554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3858840" y="3885840"/>
                  <a:ext cx="31320" cy="1630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3877200" y="3962880"/>
                  <a:ext cx="246600" cy="20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3902040" y="3998880"/>
                  <a:ext cx="195840" cy="145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3786840" y="4176360"/>
                  <a:ext cx="348480" cy="157320"/>
                </a:xfrm>
                <a:prstGeom prst="parallelogram">
                  <a:avLst>
                    <a:gd name="adj" fmla="val 55378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ff99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3854520" y="4200120"/>
                  <a:ext cx="230760" cy="68400"/>
                </a:xfrm>
                <a:prstGeom prst="parallelogram">
                  <a:avLst>
                    <a:gd name="adj" fmla="val 53854"/>
                  </a:avLst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" bIns="1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3832200" y="4269240"/>
                  <a:ext cx="218520" cy="40680"/>
                </a:xfrm>
                <a:prstGeom prst="parallelogram">
                  <a:avLst>
                    <a:gd name="adj" fmla="val 39939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111560" y="3878280"/>
                  <a:ext cx="31320" cy="1630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7" name=""/>
              <p:cNvSpPr/>
              <p:nvPr/>
            </p:nvSpPr>
            <p:spPr>
              <a:xfrm>
                <a:off x="3645000" y="3975480"/>
                <a:ext cx="178560" cy="227160"/>
              </a:xfrm>
              <a:prstGeom prst="rightArrow">
                <a:avLst>
                  <a:gd name="adj1" fmla="val 66667"/>
                  <a:gd name="adj2" fmla="val 58162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5167440" y="3886200"/>
              <a:ext cx="455400" cy="469800"/>
              <a:chOff x="5167440" y="3886200"/>
              <a:chExt cx="455400" cy="46980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5167440" y="3886200"/>
                <a:ext cx="325440" cy="469800"/>
                <a:chOff x="5167440" y="3886200"/>
                <a:chExt cx="325440" cy="469800"/>
              </a:xfrm>
            </p:grpSpPr>
            <p:sp>
              <p:nvSpPr>
                <p:cNvPr id="340" name=""/>
                <p:cNvSpPr/>
                <p:nvPr/>
              </p:nvSpPr>
              <p:spPr>
                <a:xfrm flipH="1">
                  <a:off x="5398560" y="3894120"/>
                  <a:ext cx="28800" cy="1681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H="1">
                  <a:off x="5185080" y="3973320"/>
                  <a:ext cx="225360" cy="214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H="1">
                  <a:off x="5208120" y="4010400"/>
                  <a:ext cx="178920" cy="150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H="1">
                  <a:off x="5173920" y="4193640"/>
                  <a:ext cx="318600" cy="162360"/>
                </a:xfrm>
                <a:prstGeom prst="parallelogram">
                  <a:avLst>
                    <a:gd name="adj" fmla="val 49058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ff99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>
                  <a:off x="5220000" y="4218120"/>
                  <a:ext cx="210960" cy="70560"/>
                </a:xfrm>
                <a:prstGeom prst="parallelogram">
                  <a:avLst>
                    <a:gd name="adj" fmla="val 47726"/>
                  </a:avLst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>
                  <a:off x="5251320" y="4289040"/>
                  <a:ext cx="199800" cy="41760"/>
                </a:xfrm>
                <a:prstGeom prst="parallelogram">
                  <a:avLst>
                    <a:gd name="adj" fmla="val 3557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H="1">
                  <a:off x="5167440" y="3886200"/>
                  <a:ext cx="28800" cy="1677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5459760" y="3986280"/>
                <a:ext cx="163080" cy="234360"/>
              </a:xfrm>
              <a:prstGeom prst="rightArrow">
                <a:avLst>
                  <a:gd name="adj1" fmla="val 66667"/>
                  <a:gd name="adj2" fmla="val 58162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4498920" y="4280040"/>
              <a:ext cx="382680" cy="409320"/>
              <a:chOff x="4498920" y="4280040"/>
              <a:chExt cx="382680" cy="409320"/>
            </a:xfrm>
          </p:grpSpPr>
          <p:sp>
            <p:nvSpPr>
              <p:cNvPr id="349" name=""/>
              <p:cNvSpPr/>
              <p:nvPr/>
            </p:nvSpPr>
            <p:spPr>
              <a:xfrm>
                <a:off x="4498920" y="4509000"/>
                <a:ext cx="375840" cy="180360"/>
              </a:xfrm>
              <a:custGeom>
                <a:avLst/>
                <a:gdLst>
                  <a:gd name="textAreaLeft" fmla="*/ 82440 w 375840"/>
                  <a:gd name="textAreaRight" fmla="*/ 293400 w 375840"/>
                  <a:gd name="textAreaTop" fmla="*/ 39600 h 180360"/>
                  <a:gd name="textAreaBottom" fmla="*/ 140760 h 18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498920" y="4462920"/>
                <a:ext cx="382680" cy="97920"/>
              </a:xfrm>
              <a:prstGeom prst="ellipse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565520" y="4280040"/>
                <a:ext cx="232560" cy="178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5014800" y="338616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op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374760" y="2338560"/>
            <a:ext cx="2619360" cy="941040"/>
            <a:chOff x="374760" y="2338560"/>
            <a:chExt cx="2619360" cy="941040"/>
          </a:xfrm>
        </p:grpSpPr>
        <p:sp>
          <p:nvSpPr>
            <p:cNvPr id="354" name=""/>
            <p:cNvSpPr/>
            <p:nvPr/>
          </p:nvSpPr>
          <p:spPr>
            <a:xfrm>
              <a:off x="755640" y="2739960"/>
              <a:ext cx="223848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Cloud"/>
            <p:cNvSpPr/>
            <p:nvPr/>
          </p:nvSpPr>
          <p:spPr>
            <a:xfrm>
              <a:off x="374760" y="2338560"/>
              <a:ext cx="1736640" cy="941040"/>
            </a:xfrm>
            <a:prstGeom prst="pi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Rotary selectors (rotoselectors) for building senten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907920" y="3340080"/>
            <a:ext cx="3510000" cy="930240"/>
            <a:chOff x="907920" y="3340080"/>
            <a:chExt cx="3510000" cy="930240"/>
          </a:xfrm>
        </p:grpSpPr>
        <p:sp>
          <p:nvSpPr>
            <p:cNvPr id="357" name=""/>
            <p:cNvSpPr/>
            <p:nvPr/>
          </p:nvSpPr>
          <p:spPr>
            <a:xfrm>
              <a:off x="2179800" y="3827520"/>
              <a:ext cx="22381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Cloud"/>
            <p:cNvSpPr/>
            <p:nvPr/>
          </p:nvSpPr>
          <p:spPr>
            <a:xfrm>
              <a:off x="907920" y="3340080"/>
              <a:ext cx="1592280" cy="930240"/>
            </a:xfrm>
            <a:prstGeom prst="pi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Controls for talking, saving, recalling senten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7000"/>
                            </p:stCondLst>
                            <p:childTnLst>
                              <p:par>
                                <p:cTn id="2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3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37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rols for volume, pace, and voice for spe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508200" y="1906560"/>
            <a:ext cx="141480" cy="262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225960" y="2532240"/>
            <a:ext cx="706320" cy="12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357800" y="1906560"/>
            <a:ext cx="141120" cy="262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073400" y="3032280"/>
            <a:ext cx="708120" cy="12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207040" y="1906560"/>
            <a:ext cx="141120" cy="262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923000" y="3657600"/>
            <a:ext cx="707760" cy="1238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164840" y="4657680"/>
            <a:ext cx="531720" cy="650160"/>
            <a:chOff x="4164840" y="4657680"/>
            <a:chExt cx="531720" cy="650160"/>
          </a:xfrm>
        </p:grpSpPr>
        <p:sp>
          <p:nvSpPr>
            <p:cNvPr id="367" name=""/>
            <p:cNvSpPr/>
            <p:nvPr/>
          </p:nvSpPr>
          <p:spPr>
            <a:xfrm>
              <a:off x="4385520" y="4657680"/>
              <a:ext cx="84960" cy="233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1466400">
              <a:off x="4215960" y="5047200"/>
              <a:ext cx="169200" cy="233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19618200">
              <a:off x="4470120" y="5046840"/>
              <a:ext cx="169200" cy="233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19514400">
              <a:off x="4216320" y="4735080"/>
              <a:ext cx="169200" cy="233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2550000">
              <a:off x="4470480" y="4734720"/>
              <a:ext cx="169200" cy="233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216320" y="4813200"/>
              <a:ext cx="423720" cy="3895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4216320" y="1157400"/>
            <a:ext cx="423720" cy="624960"/>
            <a:chOff x="4216320" y="1157400"/>
            <a:chExt cx="423720" cy="624960"/>
          </a:xfrm>
        </p:grpSpPr>
        <p:sp>
          <p:nvSpPr>
            <p:cNvPr id="374" name=""/>
            <p:cNvSpPr/>
            <p:nvPr/>
          </p:nvSpPr>
          <p:spPr>
            <a:xfrm>
              <a:off x="4300920" y="1157400"/>
              <a:ext cx="84600" cy="3124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470480" y="1157400"/>
              <a:ext cx="84600" cy="3124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216320" y="1391760"/>
              <a:ext cx="423720" cy="390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778040" y="1045080"/>
            <a:ext cx="2153880" cy="961200"/>
            <a:chOff x="1778040" y="1045080"/>
            <a:chExt cx="2153880" cy="961200"/>
          </a:xfrm>
        </p:grpSpPr>
        <p:grpSp>
          <p:nvGrpSpPr>
            <p:cNvPr id="378" name=""/>
            <p:cNvGrpSpPr/>
            <p:nvPr/>
          </p:nvGrpSpPr>
          <p:grpSpPr>
            <a:xfrm>
              <a:off x="3050640" y="1282680"/>
              <a:ext cx="293760" cy="499680"/>
              <a:chOff x="3050640" y="1282680"/>
              <a:chExt cx="293760" cy="499680"/>
            </a:xfrm>
          </p:grpSpPr>
          <p:sp>
            <p:nvSpPr>
              <p:cNvPr id="379" name=""/>
              <p:cNvSpPr/>
              <p:nvPr/>
            </p:nvSpPr>
            <p:spPr>
              <a:xfrm rot="5400000">
                <a:off x="2980440" y="1478160"/>
                <a:ext cx="250560" cy="1101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5400000">
                <a:off x="3002760" y="1440720"/>
                <a:ext cx="499680" cy="183600"/>
              </a:xfrm>
              <a:custGeom>
                <a:avLst/>
                <a:gdLst>
                  <a:gd name="textAreaLeft" fmla="*/ 109800 w 499680"/>
                  <a:gd name="textAreaRight" fmla="*/ 389880 w 499680"/>
                  <a:gd name="textAreaTop" fmla="*/ 40320 h 183600"/>
                  <a:gd name="textAreaBottom" fmla="*/ 143280 h 18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 rot="5400000">
              <a:off x="2178360" y="644400"/>
              <a:ext cx="961200" cy="176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40" y="1482"/>
                  </a:moveTo>
                  <a:arcTo wR="10800" hR="10800" stAng="-7222276" swAng="3756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5340" y="1482"/>
                  </a:moveTo>
                  <a:arcTo wR="10800" hR="10800" stAng="-7222276" swAng="375678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5400000">
              <a:off x="2374200" y="644400"/>
              <a:ext cx="961200" cy="176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40" y="1482"/>
                  </a:moveTo>
                  <a:arcTo wR="10800" hR="10800" stAng="-7222276" swAng="3756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5340" y="1482"/>
                  </a:moveTo>
                  <a:arcTo wR="10800" hR="10800" stAng="-7222276" swAng="375678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5400000">
              <a:off x="2570040" y="644400"/>
              <a:ext cx="961200" cy="176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40" y="1482"/>
                  </a:moveTo>
                  <a:arcTo wR="10800" hR="10800" stAng="-7222276" swAng="3756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5340" y="1482"/>
                  </a:moveTo>
                  <a:arcTo wR="10800" hR="10800" stAng="-7222276" swAng="375678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2093040" y="4543920"/>
            <a:ext cx="1697400" cy="961200"/>
            <a:chOff x="2093040" y="4543920"/>
            <a:chExt cx="1697400" cy="961200"/>
          </a:xfrm>
        </p:grpSpPr>
        <p:grpSp>
          <p:nvGrpSpPr>
            <p:cNvPr id="385" name=""/>
            <p:cNvGrpSpPr/>
            <p:nvPr/>
          </p:nvGrpSpPr>
          <p:grpSpPr>
            <a:xfrm>
              <a:off x="3319200" y="4781520"/>
              <a:ext cx="282960" cy="499680"/>
              <a:chOff x="3319200" y="4781520"/>
              <a:chExt cx="282960" cy="499680"/>
            </a:xfrm>
          </p:grpSpPr>
          <p:sp>
            <p:nvSpPr>
              <p:cNvPr id="386" name=""/>
              <p:cNvSpPr/>
              <p:nvPr/>
            </p:nvSpPr>
            <p:spPr>
              <a:xfrm rot="5400000">
                <a:off x="3246840" y="4978800"/>
                <a:ext cx="250560" cy="106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5400000">
                <a:off x="3263760" y="4942800"/>
                <a:ext cx="499680" cy="176760"/>
              </a:xfrm>
              <a:custGeom>
                <a:avLst/>
                <a:gdLst>
                  <a:gd name="textAreaLeft" fmla="*/ 109800 w 499680"/>
                  <a:gd name="textAreaRight" fmla="*/ 389880 w 499680"/>
                  <a:gd name="textAreaTop" fmla="*/ 38880 h 176760"/>
                  <a:gd name="textAreaBottom" fmla="*/ 137880 h 176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 rot="5400000">
              <a:off x="2460960" y="4175640"/>
              <a:ext cx="961200" cy="169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40" y="1482"/>
                  </a:moveTo>
                  <a:arcTo wR="10800" hR="10800" stAng="-7222276" swAng="3756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5340" y="1482"/>
                  </a:moveTo>
                  <a:arcTo wR="10800" hR="10800" stAng="-7222276" swAng="375678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4923000" y="4657680"/>
            <a:ext cx="707760" cy="749520"/>
            <a:chOff x="4923000" y="4657680"/>
            <a:chExt cx="707760" cy="749520"/>
          </a:xfrm>
        </p:grpSpPr>
        <p:sp>
          <p:nvSpPr>
            <p:cNvPr id="390" name=""/>
            <p:cNvSpPr/>
            <p:nvPr/>
          </p:nvSpPr>
          <p:spPr>
            <a:xfrm>
              <a:off x="4923000" y="4657680"/>
              <a:ext cx="707760" cy="7495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140800" y="4871880"/>
              <a:ext cx="108720" cy="53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358240" y="4871880"/>
              <a:ext cx="108720" cy="53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303880" y="4978800"/>
              <a:ext cx="163080" cy="16056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5029560" y="5031720"/>
              <a:ext cx="543960" cy="21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" y="9340"/>
                  </a:moveTo>
                  <a:arcTo wR="10800" hR="10800" stAng="-10333692" swAng="10333692"/>
                  <a:lnTo>
                    <a:pt x="10800" y="10800"/>
                  </a:lnTo>
                  <a:close/>
                </a:path>
                <a:path fill="none" w="21600" h="21600">
                  <a:moveTo>
                    <a:pt x="99" y="9340"/>
                  </a:moveTo>
                  <a:arcTo wR="10800" hR="10800" stAng="-10333692" swAng="1033369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4923000" y="1157400"/>
            <a:ext cx="707760" cy="625320"/>
            <a:chOff x="4923000" y="1157400"/>
            <a:chExt cx="707760" cy="625320"/>
          </a:xfrm>
        </p:grpSpPr>
        <p:sp>
          <p:nvSpPr>
            <p:cNvPr id="396" name=""/>
            <p:cNvSpPr/>
            <p:nvPr/>
          </p:nvSpPr>
          <p:spPr>
            <a:xfrm>
              <a:off x="4923000" y="1157400"/>
              <a:ext cx="707760" cy="625320"/>
            </a:xfrm>
            <a:prstGeom prst="rect">
              <a:avLst/>
            </a:prstGeom>
            <a:solidFill>
              <a:srgbClr val="b9b4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51520" y="1301760"/>
              <a:ext cx="128520" cy="47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437440" y="1301760"/>
              <a:ext cx="128520" cy="47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 rot="21214800">
              <a:off x="5103720" y="1446480"/>
              <a:ext cx="516600" cy="1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" y="9340"/>
                  </a:moveTo>
                  <a:arcTo wR="10800" hR="10800" stAng="-10333692" swAng="10333692"/>
                  <a:lnTo>
                    <a:pt x="10800" y="10800"/>
                  </a:lnTo>
                  <a:close/>
                </a:path>
                <a:path fill="none" w="21600" h="21600">
                  <a:moveTo>
                    <a:pt x="99" y="9340"/>
                  </a:moveTo>
                  <a:arcTo wR="10800" hR="10800" stAng="-10333692" swAng="1033369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80040" y="1397880"/>
              <a:ext cx="257400" cy="144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Cloud"/>
          <p:cNvSpPr/>
          <p:nvPr/>
        </p:nvSpPr>
        <p:spPr>
          <a:xfrm>
            <a:off x="233280" y="1209600"/>
            <a:ext cx="2570400" cy="194328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olume control: decide how loud or soft the spoken sentences will be for the 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Cloud"/>
          <p:cNvSpPr/>
          <p:nvPr/>
        </p:nvSpPr>
        <p:spPr>
          <a:xfrm>
            <a:off x="6121440" y="1181160"/>
            <a:ext cx="2636640" cy="199224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oice selector: Choose the gender and accent/language of the spoken v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Cloud"/>
          <p:cNvSpPr/>
          <p:nvPr/>
        </p:nvSpPr>
        <p:spPr>
          <a:xfrm>
            <a:off x="2055960" y="5576760"/>
            <a:ext cx="5048280" cy="112896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ace control: determine if the speed of spoken sentences will be “turtle” slow, “rabbit” fast or something in-betwe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303640" y="2901960"/>
            <a:ext cx="1049040" cy="53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5389560" y="2693880"/>
            <a:ext cx="835200" cy="462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4411800" y="5329080"/>
            <a:ext cx="0" cy="293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000"/>
                            </p:stCondLst>
                            <p:childTnLst>
                              <p:par>
                                <p:cTn id="3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oselectors – Initial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21222000">
            <a:off x="711360" y="4630320"/>
            <a:ext cx="1514160" cy="1344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21222000">
            <a:off x="412560" y="5097240"/>
            <a:ext cx="606240" cy="576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21222000">
            <a:off x="1299960" y="5771880"/>
            <a:ext cx="606240" cy="576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21222000">
            <a:off x="1242720" y="4328640"/>
            <a:ext cx="604800" cy="57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21222000">
            <a:off x="659880" y="4586040"/>
            <a:ext cx="606600" cy="576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21222000">
            <a:off x="676080" y="5648040"/>
            <a:ext cx="606240" cy="57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21222000">
            <a:off x="1769760" y="5430600"/>
            <a:ext cx="606240" cy="576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382800">
            <a:off x="4664160" y="4630680"/>
            <a:ext cx="1515960" cy="1344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 rot="383400">
            <a:off x="5871960" y="5099040"/>
            <a:ext cx="606240" cy="57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 rot="383400">
            <a:off x="4982040" y="5772240"/>
            <a:ext cx="608040" cy="576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 rot="383400">
            <a:off x="5043240" y="4329000"/>
            <a:ext cx="606240" cy="57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 rot="383400">
            <a:off x="5624280" y="4586400"/>
            <a:ext cx="606240" cy="576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 rot="383400">
            <a:off x="5608440" y="5648400"/>
            <a:ext cx="606240" cy="57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H="1" rot="383400">
            <a:off x="4512960" y="5429160"/>
            <a:ext cx="606240" cy="57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 rot="649200">
            <a:off x="604440" y="2445120"/>
            <a:ext cx="1515960" cy="1346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 rot="649200">
            <a:off x="314280" y="2688120"/>
            <a:ext cx="606600" cy="57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 rot="649200">
            <a:off x="1252440" y="2085840"/>
            <a:ext cx="608040" cy="57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 rot="649200">
            <a:off x="1080720" y="3520800"/>
            <a:ext cx="606600" cy="57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 rot="649200">
            <a:off x="522000" y="3217680"/>
            <a:ext cx="606240" cy="5774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 rot="649200">
            <a:off x="620280" y="2160360"/>
            <a:ext cx="606600" cy="5774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 rot="649200">
            <a:off x="1695600" y="2462760"/>
            <a:ext cx="606240" cy="57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V="1" rot="20600400">
            <a:off x="4878360" y="2550240"/>
            <a:ext cx="1515960" cy="1344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 flipV="1" rot="20599800">
            <a:off x="6059520" y="2718360"/>
            <a:ext cx="606240" cy="57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 flipV="1" rot="20599800">
            <a:off x="5061960" y="2213640"/>
            <a:ext cx="608040" cy="57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 flipV="1" rot="20599800">
            <a:off x="5380200" y="3623040"/>
            <a:ext cx="606240" cy="57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 flipV="1" rot="20599800">
            <a:off x="5907240" y="3265920"/>
            <a:ext cx="606240" cy="57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 flipV="1" rot="20599800">
            <a:off x="5699520" y="2223720"/>
            <a:ext cx="606600" cy="576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 flipV="1" rot="20599800">
            <a:off x="4661280" y="2635920"/>
            <a:ext cx="606600" cy="57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 rot="4197000">
            <a:off x="2658600" y="1396440"/>
            <a:ext cx="1440000" cy="1414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V="1" rot="4197000">
            <a:off x="2846880" y="1122120"/>
            <a:ext cx="576360" cy="606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 rot="4197000">
            <a:off x="3869280" y="1566360"/>
            <a:ext cx="576360" cy="606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 rot="4197000">
            <a:off x="2478600" y="2177640"/>
            <a:ext cx="576360" cy="606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 rot="4197000">
            <a:off x="2469240" y="1567080"/>
            <a:ext cx="576360" cy="60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 rot="4197000">
            <a:off x="3481920" y="1095120"/>
            <a:ext cx="576360" cy="606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V="1" rot="4197000">
            <a:off x="3748680" y="2122200"/>
            <a:ext cx="576360" cy="606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919080" y="5121360"/>
            <a:ext cx="114948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ers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817560" y="2909880"/>
            <a:ext cx="115092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la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2840040" y="1852560"/>
            <a:ext cx="1149480" cy="3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5062680" y="3006720"/>
            <a:ext cx="115092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c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861080" y="5121360"/>
            <a:ext cx="114912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scrib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6179760" y="3160800"/>
            <a:ext cx="2781720" cy="1797120"/>
            <a:chOff x="6179760" y="3160800"/>
            <a:chExt cx="2781720" cy="1797120"/>
          </a:xfrm>
        </p:grpSpPr>
        <p:sp>
          <p:nvSpPr>
            <p:cNvPr id="449" name=""/>
            <p:cNvSpPr/>
            <p:nvPr/>
          </p:nvSpPr>
          <p:spPr>
            <a:xfrm flipH="1">
              <a:off x="6179760" y="4567320"/>
              <a:ext cx="733320" cy="20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 flipV="1">
              <a:off x="6615000" y="3160800"/>
              <a:ext cx="463680" cy="51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Cloud"/>
            <p:cNvSpPr/>
            <p:nvPr/>
          </p:nvSpPr>
          <p:spPr>
            <a:xfrm>
              <a:off x="6585120" y="3394080"/>
              <a:ext cx="2376360" cy="1563840"/>
            </a:xfrm>
            <a:prstGeom prst="pi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The dark blue area contain icons representing individual words in a related word grou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1998720" y="3038400"/>
            <a:ext cx="2814480" cy="2044800"/>
            <a:chOff x="1998720" y="3038400"/>
            <a:chExt cx="2814480" cy="2044800"/>
          </a:xfrm>
        </p:grpSpPr>
        <p:sp>
          <p:nvSpPr>
            <p:cNvPr id="453" name=""/>
            <p:cNvSpPr/>
            <p:nvPr/>
          </p:nvSpPr>
          <p:spPr>
            <a:xfrm flipH="1">
              <a:off x="1998720" y="4594320"/>
              <a:ext cx="642960" cy="45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Cloud"/>
            <p:cNvSpPr/>
            <p:nvPr/>
          </p:nvSpPr>
          <p:spPr>
            <a:xfrm>
              <a:off x="2108160" y="3038400"/>
              <a:ext cx="2705040" cy="2044800"/>
            </a:xfrm>
            <a:prstGeom prst="pi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The light blue areas represent a group of words that are related by their context, part of speech, or some other intuitive common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500"/>
                            </p:stCondLst>
                            <p:childTnLst>
                              <p:par>
                                <p:cTn id="4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3000"/>
                            </p:stCondLst>
                            <p:childTnLst>
                              <p:par>
                                <p:cTn id="5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3500"/>
                            </p:stCondLst>
                            <p:childTnLst>
                              <p:par>
                                <p:cTn id="5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4500"/>
                            </p:stCondLst>
                            <p:childTnLst>
                              <p:par>
                                <p:cTn id="5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oselectors – 2nd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605520" y="1227240"/>
            <a:ext cx="1530360" cy="1648800"/>
            <a:chOff x="605520" y="1227240"/>
            <a:chExt cx="1530360" cy="1648800"/>
          </a:xfrm>
        </p:grpSpPr>
        <p:grpSp>
          <p:nvGrpSpPr>
            <p:cNvPr id="457" name=""/>
            <p:cNvGrpSpPr/>
            <p:nvPr/>
          </p:nvGrpSpPr>
          <p:grpSpPr>
            <a:xfrm>
              <a:off x="605520" y="1227240"/>
              <a:ext cx="1530360" cy="1648800"/>
              <a:chOff x="605520" y="1227240"/>
              <a:chExt cx="1530360" cy="1648800"/>
            </a:xfrm>
          </p:grpSpPr>
          <p:sp>
            <p:nvSpPr>
              <p:cNvPr id="458" name=""/>
              <p:cNvSpPr/>
              <p:nvPr/>
            </p:nvSpPr>
            <p:spPr>
              <a:xfrm rot="21222000">
                <a:off x="853920" y="1488600"/>
                <a:ext cx="1142640" cy="1067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21222000">
                <a:off x="628920" y="185616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21222000">
                <a:off x="1301040" y="239508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21222000">
                <a:off x="1251720" y="125064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21222000">
                <a:off x="813960" y="145260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21222000">
                <a:off x="830160" y="229392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21222000">
                <a:off x="1654920" y="212616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"/>
            <p:cNvSpPr txBox="1"/>
            <p:nvPr/>
          </p:nvSpPr>
          <p:spPr>
            <a:xfrm>
              <a:off x="1010880" y="1877760"/>
              <a:ext cx="86652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erson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960280" y="2046240"/>
            <a:ext cx="2037600" cy="2064240"/>
            <a:chOff x="2960280" y="2046240"/>
            <a:chExt cx="2037600" cy="2064240"/>
          </a:xfrm>
        </p:grpSpPr>
        <p:grpSp>
          <p:nvGrpSpPr>
            <p:cNvPr id="467" name=""/>
            <p:cNvGrpSpPr/>
            <p:nvPr/>
          </p:nvGrpSpPr>
          <p:grpSpPr>
            <a:xfrm>
              <a:off x="2960280" y="2046240"/>
              <a:ext cx="2037600" cy="2064240"/>
              <a:chOff x="2960280" y="2046240"/>
              <a:chExt cx="2037600" cy="2064240"/>
            </a:xfrm>
          </p:grpSpPr>
          <p:sp>
            <p:nvSpPr>
              <p:cNvPr id="468" name=""/>
              <p:cNvSpPr/>
              <p:nvPr/>
            </p:nvSpPr>
            <p:spPr>
              <a:xfrm rot="21222000">
                <a:off x="3290400" y="2376360"/>
                <a:ext cx="1527120" cy="1332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rot="21222000">
                <a:off x="2989440" y="2840760"/>
                <a:ext cx="610920" cy="5709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rot="21222000">
                <a:off x="3882240" y="3507840"/>
                <a:ext cx="610920" cy="5709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21222000">
                <a:off x="3826800" y="2077920"/>
                <a:ext cx="610920" cy="5709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21222000">
                <a:off x="3240720" y="2334240"/>
                <a:ext cx="610920" cy="5709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rot="21222000">
                <a:off x="3254040" y="3386160"/>
                <a:ext cx="610920" cy="5709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21222000">
                <a:off x="4357080" y="3168360"/>
                <a:ext cx="610920" cy="5709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"/>
            <p:cNvSpPr txBox="1"/>
            <p:nvPr/>
          </p:nvSpPr>
          <p:spPr>
            <a:xfrm>
              <a:off x="3628440" y="2871720"/>
              <a:ext cx="1209240" cy="366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erson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5661000" y="2476080"/>
            <a:ext cx="3299400" cy="3070800"/>
            <a:chOff x="5661000" y="2476080"/>
            <a:chExt cx="3299400" cy="3070800"/>
          </a:xfrm>
        </p:grpSpPr>
        <p:grpSp>
          <p:nvGrpSpPr>
            <p:cNvPr id="477" name=""/>
            <p:cNvGrpSpPr/>
            <p:nvPr/>
          </p:nvGrpSpPr>
          <p:grpSpPr>
            <a:xfrm>
              <a:off x="5661000" y="2476080"/>
              <a:ext cx="3299400" cy="3070800"/>
              <a:chOff x="5661000" y="2476080"/>
              <a:chExt cx="3299400" cy="3070800"/>
            </a:xfrm>
          </p:grpSpPr>
          <p:sp>
            <p:nvSpPr>
              <p:cNvPr id="478" name=""/>
              <p:cNvSpPr/>
              <p:nvPr/>
            </p:nvSpPr>
            <p:spPr>
              <a:xfrm rot="21222000">
                <a:off x="6193800" y="2972160"/>
                <a:ext cx="2485440" cy="19749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21222000">
                <a:off x="5704200" y="3673080"/>
                <a:ext cx="993960" cy="846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21222000">
                <a:off x="7145280" y="4648680"/>
                <a:ext cx="993960" cy="846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21222000">
                <a:off x="7077960" y="2527920"/>
                <a:ext cx="993960" cy="846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21222000">
                <a:off x="6120720" y="2917800"/>
                <a:ext cx="993960" cy="846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21222000">
                <a:off x="6125760" y="4477680"/>
                <a:ext cx="993960" cy="846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21222000">
                <a:off x="7922880" y="4137480"/>
                <a:ext cx="993960" cy="846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" name=""/>
            <p:cNvSpPr txBox="1"/>
            <p:nvPr/>
          </p:nvSpPr>
          <p:spPr>
            <a:xfrm>
              <a:off x="6743520" y="3708360"/>
              <a:ext cx="1968120" cy="542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erson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86" name=""/>
          <p:cNvSpPr/>
          <p:nvPr/>
        </p:nvSpPr>
        <p:spPr>
          <a:xfrm rot="21222000">
            <a:off x="6109920" y="4420800"/>
            <a:ext cx="100656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611" dur="500" fill="hold"/>
                                        <p:tgtEl>
                                          <p:spTgt spid="4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500"/>
                            </p:stCondLst>
                            <p:childTnLst>
                              <p:par>
                                <p:cTn id="613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614" dur="500" fill="hold"/>
                                        <p:tgtEl>
                                          <p:spTgt spid="4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0268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trols for talking, saving, recalling sentenc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141720" y="2216160"/>
            <a:ext cx="3057480" cy="297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438120" y="3641760"/>
            <a:ext cx="3467160" cy="1334880"/>
            <a:chOff x="438120" y="3641760"/>
            <a:chExt cx="3467160" cy="1334880"/>
          </a:xfrm>
        </p:grpSpPr>
        <p:sp>
          <p:nvSpPr>
            <p:cNvPr id="490" name=""/>
            <p:cNvSpPr/>
            <p:nvPr/>
          </p:nvSpPr>
          <p:spPr>
            <a:xfrm>
              <a:off x="2835360" y="3701880"/>
              <a:ext cx="1069920" cy="9907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"/>
            <p:cNvGrpSpPr/>
            <p:nvPr/>
          </p:nvGrpSpPr>
          <p:grpSpPr>
            <a:xfrm>
              <a:off x="2657520" y="3684600"/>
              <a:ext cx="999360" cy="986760"/>
              <a:chOff x="2657520" y="3684600"/>
              <a:chExt cx="999360" cy="98676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2942640" y="3684600"/>
                <a:ext cx="714240" cy="986760"/>
                <a:chOff x="2942640" y="3684600"/>
                <a:chExt cx="714240" cy="98676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3087000" y="3701520"/>
                  <a:ext cx="63360" cy="3531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3124080" y="3868200"/>
                  <a:ext cx="495000" cy="451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3174120" y="3945960"/>
                  <a:ext cx="392760" cy="316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942640" y="4330440"/>
                  <a:ext cx="699480" cy="340920"/>
                </a:xfrm>
                <a:prstGeom prst="parallelogram">
                  <a:avLst>
                    <a:gd name="adj" fmla="val 51294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ff99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3078360" y="4381560"/>
                  <a:ext cx="462960" cy="147960"/>
                </a:xfrm>
                <a:prstGeom prst="parallelogram">
                  <a:avLst>
                    <a:gd name="adj" fmla="val 49947"/>
                  </a:avLst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3033720" y="4530960"/>
                  <a:ext cx="438480" cy="87840"/>
                </a:xfrm>
                <a:prstGeom prst="parallelogram">
                  <a:avLst>
                    <a:gd name="adj" fmla="val 37115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3593880" y="3684600"/>
                  <a:ext cx="63000" cy="3528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0" name=""/>
              <p:cNvSpPr/>
              <p:nvPr/>
            </p:nvSpPr>
            <p:spPr>
              <a:xfrm>
                <a:off x="2657520" y="3895200"/>
                <a:ext cx="358200" cy="492120"/>
              </a:xfrm>
              <a:prstGeom prst="rightArrow">
                <a:avLst>
                  <a:gd name="adj1" fmla="val 66667"/>
                  <a:gd name="adj2" fmla="val 58162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2411280" y="4429080"/>
              <a:ext cx="497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Cloud"/>
            <p:cNvSpPr/>
            <p:nvPr/>
          </p:nvSpPr>
          <p:spPr>
            <a:xfrm>
              <a:off x="438120" y="3641760"/>
              <a:ext cx="1990800" cy="1334880"/>
            </a:xfrm>
            <a:prstGeom prst="pi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tore the sentence for later retriev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4351320" y="3002040"/>
            <a:ext cx="4444920" cy="1052280"/>
            <a:chOff x="4351320" y="3002040"/>
            <a:chExt cx="4444920" cy="1052280"/>
          </a:xfrm>
        </p:grpSpPr>
        <p:grpSp>
          <p:nvGrpSpPr>
            <p:cNvPr id="504" name=""/>
            <p:cNvGrpSpPr/>
            <p:nvPr/>
          </p:nvGrpSpPr>
          <p:grpSpPr>
            <a:xfrm>
              <a:off x="4351320" y="3200400"/>
              <a:ext cx="844560" cy="726840"/>
              <a:chOff x="4351320" y="3200400"/>
              <a:chExt cx="844560" cy="726840"/>
            </a:xfrm>
          </p:grpSpPr>
          <p:sp>
            <p:nvSpPr>
              <p:cNvPr id="505" name=""/>
              <p:cNvSpPr/>
              <p:nvPr/>
            </p:nvSpPr>
            <p:spPr>
              <a:xfrm rot="4661400">
                <a:off x="4654800" y="3346200"/>
                <a:ext cx="364680" cy="316440"/>
              </a:xfrm>
              <a:custGeom>
                <a:avLst/>
                <a:gdLst>
                  <a:gd name="textAreaLeft" fmla="*/ 106200 w 364680"/>
                  <a:gd name="textAreaRight" fmla="*/ 258480 w 364680"/>
                  <a:gd name="textAreaTop" fmla="*/ 92160 h 316440"/>
                  <a:gd name="textAreaBottom" fmla="*/ 224280 h 31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425" y="21600"/>
                    </a:lnTo>
                    <a:lnTo>
                      <a:pt x="8175" y="21600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041080" y="3261240"/>
                <a:ext cx="55440" cy="36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131800" y="3200400"/>
                <a:ext cx="64080" cy="48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8" name=""/>
              <p:cNvGrpSpPr/>
              <p:nvPr/>
            </p:nvGrpSpPr>
            <p:grpSpPr>
              <a:xfrm>
                <a:off x="4351320" y="3329640"/>
                <a:ext cx="375120" cy="597600"/>
                <a:chOff x="4351320" y="3329640"/>
                <a:chExt cx="375120" cy="59760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4351320" y="3382560"/>
                  <a:ext cx="374040" cy="4698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4513320" y="3430080"/>
                  <a:ext cx="91080" cy="860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420440" y="3329640"/>
                  <a:ext cx="306000" cy="597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279" y="5625"/>
                      </a:moveTo>
                      <a:arcTo wR="10800" hR="10800" stAng="-1717935" swAng="14244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279" y="5625"/>
                      </a:moveTo>
                      <a:arcTo wR="10800" hR="10800" stAng="-1717935" swAng="1424434"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2" name=""/>
            <p:cNvSpPr/>
            <p:nvPr/>
          </p:nvSpPr>
          <p:spPr>
            <a:xfrm flipH="1">
              <a:off x="5229360" y="3486240"/>
              <a:ext cx="17366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Cloud"/>
            <p:cNvSpPr/>
            <p:nvPr/>
          </p:nvSpPr>
          <p:spPr>
            <a:xfrm>
              <a:off x="6805440" y="3002040"/>
              <a:ext cx="1990800" cy="1052280"/>
            </a:xfrm>
            <a:prstGeom prst="pi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peak the current sent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435640" y="3701880"/>
            <a:ext cx="2874960" cy="2063880"/>
            <a:chOff x="5435640" y="3701880"/>
            <a:chExt cx="2874960" cy="2063880"/>
          </a:xfrm>
        </p:grpSpPr>
        <p:sp>
          <p:nvSpPr>
            <p:cNvPr id="515" name=""/>
            <p:cNvSpPr/>
            <p:nvPr/>
          </p:nvSpPr>
          <p:spPr>
            <a:xfrm>
              <a:off x="5435640" y="3701880"/>
              <a:ext cx="1069920" cy="9907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5712480" y="3701880"/>
              <a:ext cx="914040" cy="1017000"/>
              <a:chOff x="5712480" y="3701880"/>
              <a:chExt cx="914040" cy="1017000"/>
            </a:xfrm>
          </p:grpSpPr>
          <p:grpSp>
            <p:nvGrpSpPr>
              <p:cNvPr id="517" name=""/>
              <p:cNvGrpSpPr/>
              <p:nvPr/>
            </p:nvGrpSpPr>
            <p:grpSpPr>
              <a:xfrm>
                <a:off x="5712480" y="3701880"/>
                <a:ext cx="653040" cy="1017000"/>
                <a:chOff x="5712480" y="3701880"/>
                <a:chExt cx="653040" cy="1017000"/>
              </a:xfrm>
            </p:grpSpPr>
            <p:sp>
              <p:nvSpPr>
                <p:cNvPr id="518" name=""/>
                <p:cNvSpPr/>
                <p:nvPr/>
              </p:nvSpPr>
              <p:spPr>
                <a:xfrm flipH="1">
                  <a:off x="6175440" y="3719160"/>
                  <a:ext cx="57960" cy="3639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H="1">
                  <a:off x="5746680" y="3890880"/>
                  <a:ext cx="452520" cy="465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flipH="1">
                  <a:off x="5794920" y="3971160"/>
                  <a:ext cx="359280" cy="325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flipH="1">
                  <a:off x="5725440" y="4367520"/>
                  <a:ext cx="639720" cy="351360"/>
                </a:xfrm>
                <a:prstGeom prst="parallelogram">
                  <a:avLst>
                    <a:gd name="adj" fmla="val 45517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ff99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flipH="1">
                  <a:off x="5817960" y="4420440"/>
                  <a:ext cx="423000" cy="152640"/>
                </a:xfrm>
                <a:prstGeom prst="parallelogram">
                  <a:avLst>
                    <a:gd name="adj" fmla="val 44237"/>
                  </a:avLst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flipH="1">
                  <a:off x="5881320" y="4574160"/>
                  <a:ext cx="401040" cy="90720"/>
                </a:xfrm>
                <a:prstGeom prst="parallelogram">
                  <a:avLst>
                    <a:gd name="adj" fmla="val 32868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760" bIns="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flipH="1">
                  <a:off x="5712480" y="3701880"/>
                  <a:ext cx="57600" cy="3636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5" name=""/>
              <p:cNvSpPr/>
              <p:nvPr/>
            </p:nvSpPr>
            <p:spPr>
              <a:xfrm>
                <a:off x="6299280" y="3918960"/>
                <a:ext cx="327240" cy="507600"/>
              </a:xfrm>
              <a:prstGeom prst="rightArrow">
                <a:avLst>
                  <a:gd name="adj1" fmla="val 66667"/>
                  <a:gd name="adj2" fmla="val 58162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 flipH="1" flipV="1">
              <a:off x="6373440" y="4545000"/>
              <a:ext cx="384120" cy="34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Cloud"/>
            <p:cNvSpPr/>
            <p:nvPr/>
          </p:nvSpPr>
          <p:spPr>
            <a:xfrm>
              <a:off x="6319800" y="4768920"/>
              <a:ext cx="1990800" cy="996840"/>
            </a:xfrm>
            <a:prstGeom prst="pi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Recall a stored (or pre-defined sentenc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2187720" y="4527720"/>
            <a:ext cx="3093840" cy="2052360"/>
            <a:chOff x="2187720" y="4527720"/>
            <a:chExt cx="3093840" cy="2052360"/>
          </a:xfrm>
        </p:grpSpPr>
        <p:sp>
          <p:nvSpPr>
            <p:cNvPr id="529" name=""/>
            <p:cNvSpPr/>
            <p:nvPr/>
          </p:nvSpPr>
          <p:spPr>
            <a:xfrm>
              <a:off x="4211640" y="4527720"/>
              <a:ext cx="1069920" cy="9903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4370400" y="4554360"/>
              <a:ext cx="767880" cy="887400"/>
              <a:chOff x="4370400" y="4554360"/>
              <a:chExt cx="767880" cy="887400"/>
            </a:xfrm>
          </p:grpSpPr>
          <p:sp>
            <p:nvSpPr>
              <p:cNvPr id="531" name=""/>
              <p:cNvSpPr/>
              <p:nvPr/>
            </p:nvSpPr>
            <p:spPr>
              <a:xfrm>
                <a:off x="4370400" y="5050800"/>
                <a:ext cx="754200" cy="390960"/>
              </a:xfrm>
              <a:custGeom>
                <a:avLst/>
                <a:gdLst>
                  <a:gd name="textAreaLeft" fmla="*/ 165600 w 754200"/>
                  <a:gd name="textAreaRight" fmla="*/ 588600 w 754200"/>
                  <a:gd name="textAreaTop" fmla="*/ 86040 h 390960"/>
                  <a:gd name="textAreaBottom" fmla="*/ 304920 h 390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370400" y="4951080"/>
                <a:ext cx="767880" cy="212400"/>
              </a:xfrm>
              <a:prstGeom prst="ellipse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503960" y="4554360"/>
                <a:ext cx="466560" cy="3870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 flipV="1">
              <a:off x="4132440" y="5508720"/>
              <a:ext cx="395280" cy="12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Cloud"/>
            <p:cNvSpPr/>
            <p:nvPr/>
          </p:nvSpPr>
          <p:spPr>
            <a:xfrm>
              <a:off x="2187720" y="5245200"/>
              <a:ext cx="1990440" cy="1334880"/>
            </a:xfrm>
            <a:prstGeom prst="pi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Clear the sentence without playing 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5435640" y="866880"/>
            <a:ext cx="2473200" cy="2504880"/>
            <a:chOff x="5435640" y="866880"/>
            <a:chExt cx="2473200" cy="2504880"/>
          </a:xfrm>
        </p:grpSpPr>
        <p:sp>
          <p:nvSpPr>
            <p:cNvPr id="537" name=""/>
            <p:cNvSpPr/>
            <p:nvPr/>
          </p:nvSpPr>
          <p:spPr>
            <a:xfrm>
              <a:off x="5435640" y="2381400"/>
              <a:ext cx="1069920" cy="9903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479920" y="2590920"/>
              <a:ext cx="118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op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6284880" y="2160720"/>
              <a:ext cx="168480" cy="29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Cloud"/>
            <p:cNvSpPr/>
            <p:nvPr/>
          </p:nvSpPr>
          <p:spPr>
            <a:xfrm>
              <a:off x="5580000" y="866880"/>
              <a:ext cx="2328840" cy="1334880"/>
            </a:xfrm>
            <a:prstGeom prst="pi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Choose from a list of conversation subjects, to focus the active vocabul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147600" y="1927080"/>
            <a:ext cx="4331520" cy="1447920"/>
            <a:chOff x="147600" y="1927080"/>
            <a:chExt cx="4331520" cy="1447920"/>
          </a:xfrm>
        </p:grpSpPr>
        <p:grpSp>
          <p:nvGrpSpPr>
            <p:cNvPr id="542" name=""/>
            <p:cNvGrpSpPr/>
            <p:nvPr/>
          </p:nvGrpSpPr>
          <p:grpSpPr>
            <a:xfrm>
              <a:off x="2835360" y="2381400"/>
              <a:ext cx="1643760" cy="989640"/>
              <a:chOff x="2835360" y="2381400"/>
              <a:chExt cx="1643760" cy="989640"/>
            </a:xfrm>
          </p:grpSpPr>
          <p:sp>
            <p:nvSpPr>
              <p:cNvPr id="543" name=""/>
              <p:cNvSpPr/>
              <p:nvPr/>
            </p:nvSpPr>
            <p:spPr>
              <a:xfrm>
                <a:off x="2835360" y="2381400"/>
                <a:ext cx="1070280" cy="98964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851200" y="2528640"/>
                <a:ext cx="1627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Fun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5" name="Cloud"/>
            <p:cNvSpPr/>
            <p:nvPr/>
          </p:nvSpPr>
          <p:spPr>
            <a:xfrm>
              <a:off x="147600" y="1927080"/>
              <a:ext cx="2384640" cy="1447920"/>
            </a:xfrm>
            <a:prstGeom prst="pi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Play some speech-related games, like a icon-based Madlibs-type ga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382840" y="2695680"/>
              <a:ext cx="49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382840" y="2695680"/>
              <a:ext cx="49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2128680" y="669960"/>
            <a:ext cx="3092400" cy="2070000"/>
            <a:chOff x="2128680" y="669960"/>
            <a:chExt cx="3092400" cy="2070000"/>
          </a:xfrm>
        </p:grpSpPr>
        <p:sp>
          <p:nvSpPr>
            <p:cNvPr id="549" name=""/>
            <p:cNvSpPr/>
            <p:nvPr/>
          </p:nvSpPr>
          <p:spPr>
            <a:xfrm>
              <a:off x="4151160" y="1749240"/>
              <a:ext cx="1069920" cy="9907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2128680" y="669960"/>
              <a:ext cx="2913120" cy="1980360"/>
              <a:chOff x="2128680" y="669960"/>
              <a:chExt cx="2913120" cy="1980360"/>
            </a:xfrm>
          </p:grpSpPr>
          <p:sp>
            <p:nvSpPr>
              <p:cNvPr id="551" name=""/>
              <p:cNvSpPr/>
              <p:nvPr/>
            </p:nvSpPr>
            <p:spPr>
              <a:xfrm>
                <a:off x="4298760" y="1825200"/>
                <a:ext cx="7430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786120" y="1827000"/>
                <a:ext cx="417600" cy="22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Cloud"/>
              <p:cNvSpPr/>
              <p:nvPr/>
            </p:nvSpPr>
            <p:spPr>
              <a:xfrm>
                <a:off x="2128680" y="669960"/>
                <a:ext cx="2284560" cy="1334880"/>
              </a:xfrm>
              <a:prstGeom prst="pie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Arial"/>
                  </a:rPr>
                  <a:t>Get help on program functions and ideas for using OLPCiconSpea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000"/>
                            </p:stCondLst>
                            <p:childTnLst>
                              <p:par>
                                <p:cTn id="6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3000"/>
                            </p:stCondLst>
                            <p:childTnLst>
                              <p:par>
                                <p:cTn id="6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4000"/>
                            </p:stCondLst>
                            <p:childTnLst>
                              <p:par>
                                <p:cTn id="6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0"/>
                            </p:stCondLst>
                            <p:childTnLst>
                              <p:par>
                                <p:cTn id="6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tatus Display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438280" y="5715000"/>
            <a:ext cx="5105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come to OLPC Icon Spea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85800" y="5715000"/>
            <a:ext cx="1143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600,2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1523880"/>
            <a:ext cx="22860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od around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18400" y="20178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87240" y="525780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Cloud"/>
          <p:cNvSpPr/>
          <p:nvPr/>
        </p:nvSpPr>
        <p:spPr>
          <a:xfrm>
            <a:off x="3503520" y="1557360"/>
            <a:ext cx="5059440" cy="167940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he current subject of conver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Cloud"/>
          <p:cNvSpPr/>
          <p:nvPr/>
        </p:nvSpPr>
        <p:spPr>
          <a:xfrm>
            <a:off x="861840" y="3749760"/>
            <a:ext cx="1990800" cy="133488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he current mouse position on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Cloud"/>
          <p:cNvSpPr/>
          <p:nvPr/>
        </p:nvSpPr>
        <p:spPr>
          <a:xfrm>
            <a:off x="4416480" y="3836880"/>
            <a:ext cx="4122720" cy="157032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he sentence to be spoken (as its buil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Rest of What’s on Scr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71600" y="1249200"/>
            <a:ext cx="8305560" cy="510552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7696080" y="1371600"/>
            <a:ext cx="843480" cy="1295280"/>
            <a:chOff x="7696080" y="1371600"/>
            <a:chExt cx="843480" cy="1295280"/>
          </a:xfrm>
        </p:grpSpPr>
        <p:grpSp>
          <p:nvGrpSpPr>
            <p:cNvPr id="566" name=""/>
            <p:cNvGrpSpPr/>
            <p:nvPr/>
          </p:nvGrpSpPr>
          <p:grpSpPr>
            <a:xfrm>
              <a:off x="7696080" y="1752480"/>
              <a:ext cx="838080" cy="914400"/>
              <a:chOff x="7696080" y="1752480"/>
              <a:chExt cx="838080" cy="914400"/>
            </a:xfrm>
          </p:grpSpPr>
          <p:sp>
            <p:nvSpPr>
              <p:cNvPr id="567" name=""/>
              <p:cNvSpPr/>
              <p:nvPr/>
            </p:nvSpPr>
            <p:spPr>
              <a:xfrm flipH="1">
                <a:off x="7863840" y="1752480"/>
                <a:ext cx="670320" cy="91440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8" name=""/>
              <p:cNvGrpSpPr/>
              <p:nvPr/>
            </p:nvGrpSpPr>
            <p:grpSpPr>
              <a:xfrm>
                <a:off x="7696080" y="1752480"/>
                <a:ext cx="419400" cy="914400"/>
                <a:chOff x="7696080" y="1752480"/>
                <a:chExt cx="419400" cy="914400"/>
              </a:xfrm>
            </p:grpSpPr>
            <p:sp>
              <p:nvSpPr>
                <p:cNvPr id="569" name=""/>
                <p:cNvSpPr/>
                <p:nvPr/>
              </p:nvSpPr>
              <p:spPr>
                <a:xfrm flipH="1">
                  <a:off x="7954200" y="211824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flipH="1">
                  <a:off x="7792920" y="1752480"/>
                  <a:ext cx="193320" cy="18288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 flipH="1">
                  <a:off x="7825320" y="230112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 flipH="1">
                  <a:off x="7889760" y="1935360"/>
                  <a:ext cx="193320" cy="182880"/>
                </a:xfrm>
                <a:prstGeom prst="parallelogram">
                  <a:avLst>
                    <a:gd name="adj" fmla="val 26427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 flipH="1">
                  <a:off x="7760520" y="1935360"/>
                  <a:ext cx="258120" cy="365760"/>
                </a:xfrm>
                <a:custGeom>
                  <a:avLst/>
                  <a:gdLst>
                    <a:gd name="textAreaLeft" fmla="*/ 56520 w 258120"/>
                    <a:gd name="textAreaRight" fmla="*/ 201600 w 258120"/>
                    <a:gd name="textAreaTop" fmla="*/ 80280 h 365760"/>
                    <a:gd name="textAreaBottom" fmla="*/ 285480 h 365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7696080" y="193536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7825320" y="248400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7793280" y="2301120"/>
                  <a:ext cx="128880" cy="36576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flipH="1">
                  <a:off x="7696080" y="211824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8" name=""/>
            <p:cNvSpPr/>
            <p:nvPr/>
          </p:nvSpPr>
          <p:spPr>
            <a:xfrm>
              <a:off x="7849800" y="137160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EX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"/>
          <p:cNvSpPr/>
          <p:nvPr/>
        </p:nvSpPr>
        <p:spPr>
          <a:xfrm flipH="1" flipV="1">
            <a:off x="4167360" y="4812840"/>
            <a:ext cx="155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Cloud"/>
          <p:cNvSpPr/>
          <p:nvPr/>
        </p:nvSpPr>
        <p:spPr>
          <a:xfrm>
            <a:off x="4995720" y="1538280"/>
            <a:ext cx="2478240" cy="137952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he way to quit, saving all 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Cloud"/>
          <p:cNvSpPr/>
          <p:nvPr/>
        </p:nvSpPr>
        <p:spPr>
          <a:xfrm>
            <a:off x="4471920" y="3786120"/>
            <a:ext cx="4222800" cy="232884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he cur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Cloud"/>
          <p:cNvSpPr/>
          <p:nvPr/>
        </p:nvSpPr>
        <p:spPr>
          <a:xfrm>
            <a:off x="630360" y="1521000"/>
            <a:ext cx="3093840" cy="143820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he screen background is just a 19% gray The (191,191,191) RGB triplet specifies this neutral col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02:53:32Z</dcterms:created>
  <dc:creator>lbeal</dc:creator>
  <dc:description/>
  <dc:language>en-US</dc:language>
  <cp:lastModifiedBy>lbeal</cp:lastModifiedBy>
  <dcterms:modified xsi:type="dcterms:W3CDTF">2008-04-19T03:04:35Z</dcterms:modified>
  <cp:revision>18</cp:revision>
  <dc:subject/>
  <dc:title>OLPCiconSpeak Alternative User Interface</dc:title>
</cp:coreProperties>
</file>